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B802B-1A6B-4D27-90E0-87D4AE4D2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4104-629B-4E1D-B84A-5A1BE9CFA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C4FBE-D8B3-474A-90B8-BBAA707C9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DA067-F67F-4C22-8355-B0E17D5BD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FA65F-297B-4403-8B97-801B2E704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5A886-F2BB-41AD-972B-26E5F9000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5B912-4647-4873-8726-3C249883F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68440-AE55-4621-9B4C-F0AD41F74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C7339-AD6C-4219-8AD7-357B6CD2C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339CA-E138-46C4-857A-B7F31367D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032FD-8658-43EE-9C53-857FB1C6F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E8881-3B78-4B24-B907-ED6283322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44709-5034-4DFE-840C-BC6A0008B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07B95-DE58-42B4-9978-B2C251728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7F958-F33E-4EE7-91AC-488B9C7E1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A1EBF-CC2E-4297-9ABD-F9D5B3DA3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C5C5D-FA6F-4EF8-A54A-48B3816F7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4767B-7086-4F47-8D19-6CC18E7B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C0A1B-3C7F-41F9-8596-7B30DAA63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BDC6-A399-4CEA-AD8B-2B55644D4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59FB1-EFCE-479E-8D8F-FE559BB46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CF67-B3CB-40A8-AD4F-E5470DA1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CCBD7-0EB5-4B30-A1CD-75B4D20B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43EF-8CE7-4866-BE98-D472BB8E0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FF15-04FF-4DA6-9F2B-CDC734801AEF}"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E6B2-9DF4-44ED-B234-EBDF1854B9FB}"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Readers Reading:  Inside the Meaning Construction Zone</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apted from:  Norman Unrau.  </a:t>
            </a:r>
            <a:r>
              <a:rPr b="0" i="1" lang="en-US" sz="2800" spc="-1" strike="noStrike" u="sng">
                <a:solidFill>
                  <a:srgbClr val="2d2525"/>
                </a:solidFill>
                <a:uFillTx/>
                <a:latin typeface="Times New Roman"/>
              </a:rPr>
              <a:t>Content Area Reading and Writing:  Fostering Literacies in Middle and High School Culture</a:t>
            </a:r>
            <a:r>
              <a:rPr b="0" i="1" lang="en-US" sz="2800" spc="-1" strike="noStrike">
                <a:solidFill>
                  <a:srgbClr val="2d2525"/>
                </a:solidFill>
                <a:latin typeface="Times New Roman"/>
              </a:rPr>
              <a:t>.  Upper Saddle River, NJ:  Pearson/Merrill Prentice Hall, 2004</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Yourself as a reader</a:t>
            </a:r>
            <a:endParaRPr b="0" lang="en-US" sz="4400" spc="-1" strike="noStrike">
              <a:solidFill>
                <a:srgbClr val="061c62"/>
              </a:solidFill>
              <a:latin typeface="Times New Roman"/>
            </a:endParaRPr>
          </a:p>
        </p:txBody>
      </p:sp>
      <p:sp>
        <p:nvSpPr>
          <p:cNvPr id="1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You may find that you do most or all of these strategies.  That’s wonderful.</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You also may find that you struggle with reading in one way or another.  If this is the case, look through the characteristics of good readers again and see if you can figure out one or two strategies that you are not using.  Perhaps working on one of these may help you to feel more successful in reading.  Feel free to e-mail me for support and advice if you like.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 continued</a:t>
            </a:r>
            <a:endParaRPr b="0" lang="en-US" sz="4400" spc="-1" strike="noStrike">
              <a:solidFill>
                <a:srgbClr val="061c62"/>
              </a:solidFill>
              <a:latin typeface="Times New Roman"/>
            </a:endParaRPr>
          </a:p>
        </p:txBody>
      </p:sp>
      <p:sp>
        <p:nvSpPr>
          <p:cNvPr id="4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at to do if you notice resistance?  Try to find out where it is coming from and see if you can address those issues.  For example, a person who really loves or really hates rap may have some identity issues tied up in those feelings.  They may need to have their identity concerns affirmed before they can back up and consider alternatives to their views.  Another thing you might consider is the relative importance of the information you are presenting.  If it is absolutely vital that students deal with the information, let them know exactly what they need to be able to do and why.  If the information is not vital, then it may be better to lay the issue to rest.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last bit of the digression</a:t>
            </a:r>
            <a:endParaRPr b="0" lang="en-US" sz="4400" spc="-1" strike="noStrike">
              <a:solidFill>
                <a:srgbClr val="061c62"/>
              </a:solidFill>
              <a:latin typeface="Times New Roman"/>
            </a:endParaRPr>
          </a:p>
        </p:txBody>
      </p:sp>
      <p:sp>
        <p:nvSpPr>
          <p:cNvPr id="418" name="PlaceHolder 2"/>
          <p:cNvSpPr>
            <a:spLocks noGrp="1"/>
          </p:cNvSpPr>
          <p:nvPr>
            <p:ph/>
          </p:nvPr>
        </p:nvSpPr>
        <p:spPr>
          <a:xfrm>
            <a:off x="228600" y="137160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Keep in mind that schools are now extremely diverse.  No matter whether a school is rural, suburban, or urban, students come to schools from different cultures, different religious backgrounds, and different political persuasions.  They and their parents may feel extremely strongly about certain issues and those feelings may override their ability to read “objectively” in some subject areas.  Part of our job as teachers is to maintain a sense of community and respect for each other across these areas of diversity.  When you come across resistance, handle it carefully and figure out its source(s) so you can help students negotiate positive working relationships with each other despite strongly held opinions and belief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Key propositions</a:t>
            </a:r>
            <a:endParaRPr b="0" lang="en-US" sz="4400" spc="-1" strike="noStrike">
              <a:solidFill>
                <a:srgbClr val="061c62"/>
              </a:solidFill>
              <a:latin typeface="Times New Roman"/>
            </a:endParaRPr>
          </a:p>
        </p:txBody>
      </p:sp>
      <p:sp>
        <p:nvSpPr>
          <p:cNvPr id="4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chema activation, which we saw influencing phrase and sentence sense, also continues to play an important role in text elaboration. As schemata are activated, instantiated, or retired, we expand our understanding of a text, in part, because of a schema’s important meaning-construction functions.  While schemata benefit text building,they may also distort the comprehension of texts, as can macro-propositions.  These distortions in comprehension can occur if contradictions arise between a reader’s schema and the literal content and intended meaning of a text being read.  For example, when a reader’s background knowledge of natural phenomena varies from scientific knowledge, their misconceptions may hinder their acquisition of new information that is not consistent with their old misunderstandings.  Thus, activating prior knowledge does not always facilitate learning if the new information is incompatible with old information.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textuality</a:t>
            </a:r>
            <a:endParaRPr b="0" lang="en-US" sz="4400" spc="-1" strike="noStrike">
              <a:solidFill>
                <a:srgbClr val="061c62"/>
              </a:solidFill>
              <a:latin typeface="Times New Roman"/>
            </a:endParaRPr>
          </a:p>
        </p:txBody>
      </p:sp>
      <p:sp>
        <p:nvSpPr>
          <p:cNvPr id="4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ntertextuality is the process of connecting developing texts with past texts to construct meanings.  Those past texts can include not only printed texts but also the texts of movies, television, and other forms of art or cultural communication.  You can think of intertextuality as the interaction between the text being read and the many “texts” internalized from our cultural experiences.  Furthermore, as elements of a text begin to form a recognizable text pattern, such as that of an adventure story, a satire, an autobiography, or an argument, the schema for that particular genre may be activated.  If so, reader’s expectations for the upcoming structure and content of the text may be aroused and affect the text’s interpretation.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nal text representation (verbal and nonverbal)</a:t>
            </a:r>
            <a:endParaRPr b="0" lang="en-US" sz="4400" spc="-1" strike="noStrike">
              <a:solidFill>
                <a:srgbClr val="061c62"/>
              </a:solidFill>
              <a:latin typeface="Times New Roman"/>
            </a:endParaRPr>
          </a:p>
        </p:txBody>
      </p:sp>
      <p:sp>
        <p:nvSpPr>
          <p:cNvPr id="42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lthough the internal text representation appears as a separate entity in the model, it is stored in both long-term memory and working memory.  The internal text representation is the text as we currently understand it. We can also activate text we have processed earlier and stored in LTM.  That text representation may often be brought into working memory when readers are looking back to summarize a text or to interpret newly processed tex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nal text representation</a:t>
            </a:r>
            <a:endParaRPr b="0" lang="en-US" sz="4400" spc="-1" strike="noStrike">
              <a:solidFill>
                <a:srgbClr val="061c62"/>
              </a:solidFill>
              <a:latin typeface="Times New Roman"/>
            </a:endParaRPr>
          </a:p>
        </p:txBody>
      </p:sp>
      <p:sp>
        <p:nvSpPr>
          <p:cNvPr id="4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Furthermore, the internal text representation may be both verbal and nonverbal.  As a complement ot verbal comprehension, imagery’s role in reading comprehension is evident from research and from its intuitive appeal.  Often, when we read fiction, our minds are vibrant with the images conveyed through a riveting text.  However, the storage of imagery occurs in response to reading expository as well as narrative text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nal text representation</a:t>
            </a:r>
            <a:endParaRPr b="0" lang="en-US" sz="4400" spc="-1" strike="noStrike">
              <a:solidFill>
                <a:srgbClr val="061c62"/>
              </a:solidFill>
              <a:latin typeface="Times New Roman"/>
            </a:endParaRPr>
          </a:p>
        </p:txBody>
      </p:sp>
      <p:sp>
        <p:nvSpPr>
          <p:cNvPr id="4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ccording to Dual Coding Theory, our minds operate with two different but connected mental systems that derive from our verbal and nonverbal experiences.  While one of these systems is specialized for processing verbal information, the other processes nonverbal information, such as imagery.  These two systems can function independently or in parallel through a net work of interconnections.  The Dual Coding Theory complements the schema theory beaus it accounts for both the verbal dimensions of comprehension that schema theory does not explain and the mental imagery that schema theory does not adequately explai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Nonverbal imagery</a:t>
            </a:r>
            <a:endParaRPr b="0" lang="en-US" sz="4400" spc="-1" strike="noStrike">
              <a:solidFill>
                <a:srgbClr val="061c62"/>
              </a:solidFill>
              <a:latin typeface="Times New Roman"/>
            </a:endParaRPr>
          </a:p>
        </p:txBody>
      </p:sp>
      <p:sp>
        <p:nvSpPr>
          <p:cNvPr id="430"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Mental imagery makes several contributions to reading.  First, mental imagery helps readers comprehend texts, both narrative and expository, without any special instruction or training.  It appears as a natural and spontaneous process, one that we might extend or expand to facilitate comprehension of all kinds of texts.  Second, imagery enhances longterm recall for texts.  Concrete sentences and paragraphs, those laden with imagery, are much more likely to be recalled than abstract texts.  Imagery, perhaps as mental “pegs” on which to hang related information, appears to facilitate both storage and recall of printed information.  Third, while verbal cognitions plays a significant part in readers’ aesthetic response or emotional reaction to texts, imagery is essential for a “lived” experience of literature.  Imagery also contributes to the “loved” experience of other kinds of texts, such as those based on science and history.  Some secondary school texts, such as Biology:  Visualizing Life (Johnson, 1998) have been designed to make use of students’ nonverbal systems to increase understanding, comprehension, and recall.</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a:t>
            </a:r>
            <a:endParaRPr b="0" lang="en-US" sz="4400" spc="-1" strike="noStrike">
              <a:solidFill>
                <a:srgbClr val="061c62"/>
              </a:solidFill>
              <a:latin typeface="Times New Roman"/>
            </a:endParaRPr>
          </a:p>
        </p:txBody>
      </p:sp>
      <p:sp>
        <p:nvSpPr>
          <p:cNvPr id="4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llowing years of research and investigation, educators widely agree that the concept of metacognition includes (a) knowledge of one’s own knowledge and cognitive processes and (b) the ability to monitor and regulate one’s knowledge and cognitive process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on and music</a:t>
            </a:r>
            <a:endParaRPr b="0" lang="en-US" sz="4400" spc="-1" strike="noStrike">
              <a:solidFill>
                <a:srgbClr val="061c62"/>
              </a:solidFill>
              <a:latin typeface="Times New Roman"/>
            </a:endParaRPr>
          </a:p>
        </p:txBody>
      </p:sp>
      <p:sp>
        <p:nvSpPr>
          <p:cNvPr id="4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Metacognitive strategies are what allow us to teach ourselves because with them, we are able to assess our own performance and thoughtfully choose strategies in order to improve upon that performance.  Music is a critical area in which students must learn metacognitive strategies in order to be successful.  The more your students become aware of how they learn music and the strategies they can use to successfully teach themselves, the more progress they will make.  You need to consciously teach these strategies to your student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9140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Good Readers/Good Musicians</a:t>
            </a:r>
            <a:endParaRPr b="0" lang="en-US" sz="4400" spc="-1" strike="noStrike">
              <a:solidFill>
                <a:srgbClr val="061c62"/>
              </a:solidFill>
              <a:latin typeface="Times New Roman"/>
            </a:endParaRPr>
          </a:p>
        </p:txBody>
      </p:sp>
      <p:sp>
        <p:nvSpPr>
          <p:cNvPr id="112" name="PlaceHolder 2"/>
          <p:cNvSpPr>
            <a:spLocks noGrp="1"/>
          </p:cNvSpPr>
          <p:nvPr>
            <p:ph/>
          </p:nvPr>
        </p:nvSpPr>
        <p:spPr>
          <a:xfrm>
            <a:off x="0" y="1905120"/>
            <a:ext cx="3619440" cy="411480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ctivate prior knowledge of subject</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onitor comprehension</a:t>
            </a:r>
            <a:endParaRPr b="0" i="1" lang="en-US" sz="1800" spc="-1" strike="noStrike">
              <a:solidFill>
                <a:srgbClr val="2d2525"/>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Categorize important &amp; unimportant</a:t>
            </a:r>
            <a:endParaRPr b="0" i="1" lang="en-US" sz="1800" spc="-1" strike="noStrike">
              <a:solidFill>
                <a:srgbClr val="2d2525"/>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ake inferences &amp; test them</a:t>
            </a:r>
            <a:endParaRPr b="0" i="1" lang="en-US" sz="1800" spc="-1" strike="noStrike">
              <a:solidFill>
                <a:srgbClr val="2d2525"/>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Review</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Do not ignore problems</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Know why they are reading</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Keep meanings internally consistent</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Identify key concepts</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Use working memory</a:t>
            </a:r>
            <a:endParaRPr b="0" i="1" lang="en-US" sz="1800" spc="-1" strike="noStrike">
              <a:solidFill>
                <a:srgbClr val="2d2525"/>
              </a:solidFill>
              <a:latin typeface="Times New Roman"/>
            </a:endParaRPr>
          </a:p>
        </p:txBody>
      </p:sp>
      <p:sp>
        <p:nvSpPr>
          <p:cNvPr id="113" name="PlaceHolder 3"/>
          <p:cNvSpPr>
            <a:spLocks noGrp="1"/>
          </p:cNvSpPr>
          <p:nvPr>
            <p:ph/>
          </p:nvPr>
        </p:nvSpPr>
        <p:spPr>
          <a:xfrm>
            <a:off x="3809880" y="1905120"/>
            <a:ext cx="4114800" cy="45720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ctivate prior knowledge of music being performed.</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onitor for correct notes, interpretation</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Pay attention to notes that should be emphasized vs. notes that should not be.</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ay make inferences the first time they play/listen to a piece.</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Remember what came before </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Correct problems quickly</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Know why they are playing</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re consistent in interpretation within a piece of music</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Identify critical aspects of the music (e.g., form, emphasis, etc.)</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Use all kinds of memory!</a:t>
            </a:r>
            <a:endParaRPr b="0" i="1" lang="en-US" sz="1800" spc="-1" strike="noStrike">
              <a:solidFill>
                <a:srgbClr val="2d2525"/>
              </a:solidFill>
              <a:latin typeface="Times New Roman"/>
            </a:endParaRPr>
          </a:p>
        </p:txBody>
      </p:sp>
      <p:sp>
        <p:nvSpPr>
          <p:cNvPr id="114" name=""/>
          <p:cNvSpPr/>
          <p:nvPr/>
        </p:nvSpPr>
        <p:spPr>
          <a:xfrm>
            <a:off x="0" y="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Remember this when you are letting others know that music is a critical part of schooling:  this shows you many ways in which you are supporting good literacy skills.</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on and music</a:t>
            </a:r>
            <a:endParaRPr b="0" lang="en-US" sz="4400" spc="-1" strike="noStrike">
              <a:solidFill>
                <a:srgbClr val="061c62"/>
              </a:solidFill>
              <a:latin typeface="Times New Roman"/>
            </a:endParaRPr>
          </a:p>
        </p:txBody>
      </p:sp>
      <p:sp>
        <p:nvSpPr>
          <p:cNvPr id="4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e practice strategies that you use are examples of metacognition.  When you practice, you assess your own knowledge of a piece.  When you find an area of weakness, then you make decisions for how to address those weaknesses.  If the weakness is playing or singing in tune, you might make the choice to use a fixed pitch instrument to help you learn the correct intervals.  If the weakness is being able to play a passage quickly enough, then you might use a metronome to help you develop speed.  Over time, you have learned how you learn music: you know which practice strategies work for you and which are less effective for you individually.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on and music</a:t>
            </a:r>
            <a:endParaRPr b="0" lang="en-US" sz="4400" spc="-1" strike="noStrike">
              <a:solidFill>
                <a:srgbClr val="061c62"/>
              </a:solidFill>
              <a:latin typeface="Times New Roman"/>
            </a:endParaRPr>
          </a:p>
        </p:txBody>
      </p:sp>
      <p:sp>
        <p:nvSpPr>
          <p:cNvPr id="43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en you teach students, you need to consciously help them to develop metacognitive processes in relation to music.  It is not effective to tell students (especially young children) to “go home and practice.”  They do not know what you mean.  Instead, you need to help them to learn practice strategies and how to effectively apply them.  When you do this, you are teaching metacognition and you need to be able to explain this to anyone who is not familiar with music (your Praxis III examiner comes to min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a:t>
            </a:r>
            <a:endParaRPr b="0" lang="en-US" sz="4400" spc="-1" strike="noStrike">
              <a:solidFill>
                <a:srgbClr val="061c62"/>
              </a:solidFill>
              <a:latin typeface="Times New Roman"/>
            </a:endParaRPr>
          </a:p>
        </p:txBody>
      </p:sp>
      <p:sp>
        <p:nvSpPr>
          <p:cNvPr id="440" name="PlaceHolder 2"/>
          <p:cNvSpPr>
            <a:spLocks noGrp="1"/>
          </p:cNvSpPr>
          <p:nvPr>
            <p:ph/>
          </p:nvPr>
        </p:nvSpPr>
        <p:spPr>
          <a:xfrm>
            <a:off x="228600" y="1447920"/>
            <a:ext cx="739152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etacognitive knowledge usually accumulates over years of experience with learning and problem solving.  We learn how we think about ourselves as thinkers, about tasks, and about strategies that help us accomplish tasks.  Metacognitive and self-knowledge is exemplified by a student’s knowing that she’s better at solving word problems in math than in reading Shakespeare.  As a teacher, we would see metacognitive knowledge about tasks in a student who recognizes that he remembers reading about Colonial American history more than the New Deal era in our history because he knows more about early America and is more interested in it.  Metacognitive knowledge about strategies appears when a student decides to make a knowledge map to represent information she has just learned about different types of cell divi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a:t>
            </a:r>
            <a:endParaRPr b="0" lang="en-US" sz="4400" spc="-1" strike="noStrike">
              <a:solidFill>
                <a:srgbClr val="061c62"/>
              </a:solidFill>
              <a:latin typeface="Times New Roman"/>
            </a:endParaRPr>
          </a:p>
        </p:txBody>
      </p:sp>
      <p:sp>
        <p:nvSpPr>
          <p:cNvPr id="4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onitoring and Controlling</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etacognitive knowledge</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andards of evaluat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etacognitive strategi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rategy select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anning (part of long term memory and active in working memory)</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 in relation to music</a:t>
            </a:r>
            <a:endParaRPr b="0" lang="en-US" sz="4400" spc="-1" strike="noStrike">
              <a:solidFill>
                <a:srgbClr val="061c62"/>
              </a:solidFill>
              <a:latin typeface="Times New Roman"/>
            </a:endParaRPr>
          </a:p>
        </p:txBody>
      </p:sp>
      <p:sp>
        <p:nvSpPr>
          <p:cNvPr id="4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Monitoring and Controlling:  what is going on as I am performing this piece?  </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Metacognitive knowledge:  What do I know about learning music that I can apply to this piece?</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Standards of evaluation:  is this performance what I am capable of doing?  What exactly is going on with intonation, rhythm, style, articulation, tempo, etc.?</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Metacognitive strategies:  What can I do to make this better?</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Strategy selection:  Of the two or three choices I might have, which one would probably work best for me?</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Planning (part of long term memory and active in working memory):  What will I do next as I am playing this piece?</a:t>
            </a:r>
            <a:endParaRPr b="0" i="1" lang="en-US" sz="2000" spc="-1" strike="noStrike">
              <a:solidFill>
                <a:srgbClr val="2d2525"/>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	</a:t>
            </a:r>
            <a:r>
              <a:rPr b="0" lang="en-US" sz="2000" spc="-1" strike="noStrike">
                <a:solidFill>
                  <a:srgbClr val="365d96"/>
                </a:solidFill>
                <a:latin typeface="Times New Roman"/>
              </a:rPr>
              <a:t>Students need to be consciously asking themselves these questions.  The way to get them to do this is for you to model this during rehearsals and music class.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nitoring and control</a:t>
            </a:r>
            <a:endParaRPr b="0" lang="en-US" sz="4400" spc="-1" strike="noStrike">
              <a:solidFill>
                <a:srgbClr val="061c62"/>
              </a:solidFill>
              <a:latin typeface="Times New Roman"/>
            </a:endParaRPr>
          </a:p>
        </p:txBody>
      </p:sp>
      <p:sp>
        <p:nvSpPr>
          <p:cNvPr id="44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Metacognitive monitoring and control includes various kinds of self-assessment and self-management, both of which are of keen interest to educators seeking methods to develop self-regulating learners.  When you get bogged down in reading something you’re having trouble understanding, like a Shakespearean sonnet or a description of DNA replication, what do you usually do to help yourself understand?  The answer you give to this question exemplifies metacognitive processes in the form of self-assessment.  Acts of reflection on your thinking include discovering knowledge not only about what you know and how you think but also about when and how you use your knowledge and strategies.  Do you have a purpose in mind whenever you read?  Do you make mental summaries?  Do you go back and forth in a text to make connections between ideas?  Do you have guesses about a passage’s meaning and then check to see if your guess was right?</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nitoring and control</a:t>
            </a:r>
            <a:endParaRPr b="0" lang="en-US" sz="4400" spc="-1" strike="noStrike">
              <a:solidFill>
                <a:srgbClr val="061c62"/>
              </a:solidFill>
              <a:latin typeface="Times New Roman"/>
            </a:endParaRPr>
          </a:p>
        </p:txBody>
      </p:sp>
      <p:sp>
        <p:nvSpPr>
          <p:cNvPr id="44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etacognitive processes include not only metacognitive knowledge but also both the monitoring and controlling of cognition while reading.  To control the development of texts, we might engage several different metacognitive processes:  standards of evaluation, metacognitive strategies, and planning.  In some ways, these metacognitive processes function like an executive observing, evaluating, and improving the quality of our reading.  Together our metacognitive capacity to monitor and control text building enables us to engage in self-regulated comprehen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nitoring and control</a:t>
            </a:r>
            <a:endParaRPr b="0" lang="en-US" sz="4400" spc="-1" strike="noStrike">
              <a:solidFill>
                <a:srgbClr val="061c62"/>
              </a:solidFill>
              <a:latin typeface="Times New Roman"/>
            </a:endParaRPr>
          </a:p>
        </p:txBody>
      </p:sp>
      <p:sp>
        <p:nvSpPr>
          <p:cNvPr id="450" name="PlaceHolder 2"/>
          <p:cNvSpPr>
            <a:spLocks noGrp="1"/>
          </p:cNvSpPr>
          <p:nvPr>
            <p:ph/>
          </p:nvPr>
        </p:nvSpPr>
        <p:spPr>
          <a:xfrm>
            <a:off x="228600" y="1676520"/>
            <a:ext cx="73915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During cognitive processing of text, we generate mental representations of the external text in the form of propositions that are integrated and stored in memory as chunks or networks of information that form or modify schemata held in long-term memory.  Perhaps this is happening to you as you read about this model of reading and compare it to your own mental model of what you think happens when a reader reads.  As reading progresses, readers construct gists and build an internal text representation, just as you are constructing an internal representation of this reading model.  Skilled readers monitor the representational products of the reading process to watch for various kinds of miscues, word recognition problems, incongruities within an evolving text, and incongruities between an evolving text and existing world knowledge or current schemata.  Perhaps as you have been reading about this model, parts of it support your existing knowledge of reading while other parts don’t fit so well and require your further examination to see if you can accept the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51" name=""/>
          <p:cNvSpPr/>
          <p:nvPr/>
        </p:nvSpPr>
        <p:spPr>
          <a:xfrm>
            <a:off x="4876920" y="2971800"/>
            <a:ext cx="1981080" cy="83808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2" name=""/>
          <p:cNvSpPr/>
          <p:nvPr/>
        </p:nvSpPr>
        <p:spPr>
          <a:xfrm>
            <a:off x="4724280" y="4495680"/>
            <a:ext cx="2133720" cy="3049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3" name=""/>
          <p:cNvSpPr/>
          <p:nvPr/>
        </p:nvSpPr>
        <p:spPr>
          <a:xfrm>
            <a:off x="2286000" y="4495680"/>
            <a:ext cx="2286000" cy="5335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4" name=""/>
          <p:cNvSpPr/>
          <p:nvPr/>
        </p:nvSpPr>
        <p:spPr>
          <a:xfrm>
            <a:off x="228600" y="3733920"/>
            <a:ext cx="236232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5" name=""/>
          <p:cNvSpPr/>
          <p:nvPr/>
        </p:nvSpPr>
        <p:spPr>
          <a:xfrm>
            <a:off x="4800600" y="1676520"/>
            <a:ext cx="220968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6" name=""/>
          <p:cNvSpPr/>
          <p:nvPr/>
        </p:nvSpPr>
        <p:spPr>
          <a:xfrm>
            <a:off x="2666880" y="1752480"/>
            <a:ext cx="1752840" cy="4572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7" name=""/>
          <p:cNvSpPr/>
          <p:nvPr/>
        </p:nvSpPr>
        <p:spPr>
          <a:xfrm>
            <a:off x="533520" y="2286000"/>
            <a:ext cx="2361960" cy="9144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8" name=""/>
          <p:cNvSpPr/>
          <p:nvPr/>
        </p:nvSpPr>
        <p:spPr>
          <a:xfrm>
            <a:off x="0" y="4648320"/>
            <a:ext cx="2133720" cy="1066680"/>
          </a:xfrm>
          <a:prstGeom prst="wedgeRoundRectCallout">
            <a:avLst>
              <a:gd name="adj1" fmla="val 1189"/>
              <a:gd name="adj2" fmla="val -72916"/>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59" name=""/>
          <p:cNvSpPr/>
          <p:nvPr/>
        </p:nvSpPr>
        <p:spPr>
          <a:xfrm>
            <a:off x="2286000" y="5334120"/>
            <a:ext cx="1905120" cy="1523880"/>
          </a:xfrm>
          <a:prstGeom prst="wedgeRoundRectCallout">
            <a:avLst>
              <a:gd name="adj1" fmla="val -11750"/>
              <a:gd name="adj2" fmla="val -69064"/>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0" name=""/>
          <p:cNvSpPr/>
          <p:nvPr/>
        </p:nvSpPr>
        <p:spPr>
          <a:xfrm>
            <a:off x="4724280" y="5334120"/>
            <a:ext cx="2286000" cy="1295280"/>
          </a:xfrm>
          <a:prstGeom prst="wedgeRoundRectCallout">
            <a:avLst>
              <a:gd name="adj1" fmla="val -20277"/>
              <a:gd name="adj2" fmla="val -91421"/>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1" name=""/>
          <p:cNvSpPr/>
          <p:nvPr/>
        </p:nvSpPr>
        <p:spPr>
          <a:xfrm>
            <a:off x="7238880" y="3048120"/>
            <a:ext cx="1905120" cy="1295280"/>
          </a:xfrm>
          <a:prstGeom prst="wedgeRoundRectCallout">
            <a:avLst>
              <a:gd name="adj1" fmla="val -71916"/>
              <a:gd name="adj2" fmla="val -8453"/>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2" name=""/>
          <p:cNvSpPr/>
          <p:nvPr/>
        </p:nvSpPr>
        <p:spPr>
          <a:xfrm>
            <a:off x="4800600" y="0"/>
            <a:ext cx="2819520" cy="1143000"/>
          </a:xfrm>
          <a:prstGeom prst="wedgeRoundRectCallout">
            <a:avLst>
              <a:gd name="adj1" fmla="val -26240"/>
              <a:gd name="adj2" fmla="val 8527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3" name=""/>
          <p:cNvSpPr/>
          <p:nvPr/>
        </p:nvSpPr>
        <p:spPr>
          <a:xfrm>
            <a:off x="2514600" y="0"/>
            <a:ext cx="1828800" cy="1371600"/>
          </a:xfrm>
          <a:prstGeom prst="wedgeRoundRectCallout">
            <a:avLst>
              <a:gd name="adj1" fmla="val -2518"/>
              <a:gd name="adj2" fmla="val 7534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4" name=""/>
          <p:cNvSpPr/>
          <p:nvPr/>
        </p:nvSpPr>
        <p:spPr>
          <a:xfrm>
            <a:off x="0" y="228600"/>
            <a:ext cx="2133720" cy="1295280"/>
          </a:xfrm>
          <a:prstGeom prst="wedgeRoundRectCallout">
            <a:avLst>
              <a:gd name="adj1" fmla="val 15773"/>
              <a:gd name="adj2" fmla="val 109805"/>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5" name="" descr=""/>
          <p:cNvPicPr/>
          <p:nvPr/>
        </p:nvPicPr>
        <p:blipFill>
          <a:blip r:embed="rId1"/>
          <a:srcRect l="1571" t="0" r="0" b="62637"/>
          <a:stretch/>
        </p:blipFill>
        <p:spPr>
          <a:xfrm>
            <a:off x="3276720" y="2743200"/>
            <a:ext cx="1082520" cy="674640"/>
          </a:xfrm>
          <a:prstGeom prst="rect">
            <a:avLst/>
          </a:prstGeom>
          <a:ln w="0">
            <a:noFill/>
          </a:ln>
        </p:spPr>
      </p:pic>
      <p:sp>
        <p:nvSpPr>
          <p:cNvPr id="466" name=""/>
          <p:cNvSpPr/>
          <p:nvPr/>
        </p:nvSpPr>
        <p:spPr>
          <a:xfrm>
            <a:off x="2666520" y="175248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Lexical standard</a:t>
            </a:r>
            <a:endParaRPr b="0" lang="en-US" sz="1800" spc="-1" strike="noStrike">
              <a:solidFill>
                <a:srgbClr val="2d2525"/>
              </a:solidFill>
              <a:latin typeface="Times New Roman"/>
            </a:endParaRPr>
          </a:p>
        </p:txBody>
      </p:sp>
      <p:sp>
        <p:nvSpPr>
          <p:cNvPr id="467" name=""/>
          <p:cNvSpPr/>
          <p:nvPr/>
        </p:nvSpPr>
        <p:spPr>
          <a:xfrm>
            <a:off x="4876920" y="16765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External consistency standard</a:t>
            </a:r>
            <a:endParaRPr b="0" lang="en-US" sz="1800" spc="-1" strike="noStrike">
              <a:solidFill>
                <a:srgbClr val="2d2525"/>
              </a:solidFill>
              <a:latin typeface="Times New Roman"/>
            </a:endParaRPr>
          </a:p>
        </p:txBody>
      </p:sp>
      <p:sp>
        <p:nvSpPr>
          <p:cNvPr id="468" name=""/>
          <p:cNvSpPr/>
          <p:nvPr/>
        </p:nvSpPr>
        <p:spPr>
          <a:xfrm>
            <a:off x="4937040" y="3086280"/>
            <a:ext cx="245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nternal consistency standard</a:t>
            </a:r>
            <a:endParaRPr b="0" lang="en-US" sz="1800" spc="-1" strike="noStrike">
              <a:solidFill>
                <a:srgbClr val="2d2525"/>
              </a:solidFill>
              <a:latin typeface="Times New Roman"/>
            </a:endParaRPr>
          </a:p>
        </p:txBody>
      </p:sp>
      <p:sp>
        <p:nvSpPr>
          <p:cNvPr id="469" name=""/>
          <p:cNvSpPr/>
          <p:nvPr/>
        </p:nvSpPr>
        <p:spPr>
          <a:xfrm>
            <a:off x="4707720" y="4457880"/>
            <a:ext cx="203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yntactical standard</a:t>
            </a:r>
            <a:endParaRPr b="0" lang="en-US" sz="1800" spc="-1" strike="noStrike">
              <a:solidFill>
                <a:srgbClr val="2d2525"/>
              </a:solidFill>
              <a:latin typeface="Times New Roman"/>
            </a:endParaRPr>
          </a:p>
        </p:txBody>
      </p:sp>
      <p:sp>
        <p:nvSpPr>
          <p:cNvPr id="470" name=""/>
          <p:cNvSpPr/>
          <p:nvPr/>
        </p:nvSpPr>
        <p:spPr>
          <a:xfrm>
            <a:off x="2286000" y="44197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tructural cohesiveness standard</a:t>
            </a:r>
            <a:endParaRPr b="0" lang="en-US" sz="1800" spc="-1" strike="noStrike">
              <a:solidFill>
                <a:srgbClr val="2d2525"/>
              </a:solidFill>
              <a:latin typeface="Times New Roman"/>
            </a:endParaRPr>
          </a:p>
        </p:txBody>
      </p:sp>
      <p:sp>
        <p:nvSpPr>
          <p:cNvPr id="471" name=""/>
          <p:cNvSpPr/>
          <p:nvPr/>
        </p:nvSpPr>
        <p:spPr>
          <a:xfrm>
            <a:off x="380880" y="3809880"/>
            <a:ext cx="230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Propositional cohesiveness standard</a:t>
            </a:r>
            <a:endParaRPr b="0" lang="en-US" sz="1800" spc="-1" strike="noStrike">
              <a:solidFill>
                <a:srgbClr val="2d2525"/>
              </a:solidFill>
              <a:latin typeface="Times New Roman"/>
            </a:endParaRPr>
          </a:p>
        </p:txBody>
      </p:sp>
      <p:sp>
        <p:nvSpPr>
          <p:cNvPr id="472" name=""/>
          <p:cNvSpPr/>
          <p:nvPr/>
        </p:nvSpPr>
        <p:spPr>
          <a:xfrm>
            <a:off x="685800" y="243828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Clarity and completeness standard</a:t>
            </a:r>
            <a:endParaRPr b="0" lang="en-US" sz="1800" spc="-1" strike="noStrike">
              <a:solidFill>
                <a:srgbClr val="2d2525"/>
              </a:solidFill>
              <a:latin typeface="Times New Roman"/>
            </a:endParaRPr>
          </a:p>
        </p:txBody>
      </p:sp>
      <p:sp>
        <p:nvSpPr>
          <p:cNvPr id="473" name=""/>
          <p:cNvSpPr/>
          <p:nvPr/>
        </p:nvSpPr>
        <p:spPr>
          <a:xfrm>
            <a:off x="2590920" y="152280"/>
            <a:ext cx="176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 I understand all the individual words in the text?</a:t>
            </a:r>
            <a:endParaRPr b="0" lang="en-US" sz="1800" spc="-1" strike="noStrike">
              <a:solidFill>
                <a:srgbClr val="2d2525"/>
              </a:solidFill>
              <a:latin typeface="Times New Roman"/>
            </a:endParaRPr>
          </a:p>
        </p:txBody>
      </p:sp>
      <p:sp>
        <p:nvSpPr>
          <p:cNvPr id="474" name=""/>
          <p:cNvSpPr/>
          <p:nvPr/>
        </p:nvSpPr>
        <p:spPr>
          <a:xfrm>
            <a:off x="4800600" y="15228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 my knowledge of the topic and my understanding of this text harmonize?</a:t>
            </a:r>
            <a:endParaRPr b="0" lang="en-US" sz="1800" spc="-1" strike="noStrike">
              <a:solidFill>
                <a:srgbClr val="2d2525"/>
              </a:solidFill>
              <a:latin typeface="Times New Roman"/>
            </a:endParaRPr>
          </a:p>
        </p:txBody>
      </p:sp>
      <p:sp>
        <p:nvSpPr>
          <p:cNvPr id="475" name=""/>
          <p:cNvSpPr/>
          <p:nvPr/>
        </p:nvSpPr>
        <p:spPr>
          <a:xfrm>
            <a:off x="7299360" y="3086280"/>
            <a:ext cx="184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anything I comprehend from the text contradict other parts of it?</a:t>
            </a:r>
            <a:endParaRPr b="0" lang="en-US" sz="1800" spc="-1" strike="noStrike">
              <a:solidFill>
                <a:srgbClr val="2d2525"/>
              </a:solidFill>
              <a:latin typeface="Times New Roman"/>
            </a:endParaRPr>
          </a:p>
        </p:txBody>
      </p:sp>
      <p:sp>
        <p:nvSpPr>
          <p:cNvPr id="476" name=""/>
          <p:cNvSpPr/>
          <p:nvPr/>
        </p:nvSpPr>
        <p:spPr>
          <a:xfrm>
            <a:off x="4861080" y="537228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Are individual words or word groups correct grammatically?</a:t>
            </a:r>
            <a:endParaRPr b="0" lang="en-US" sz="1800" spc="-1" strike="noStrike">
              <a:solidFill>
                <a:srgbClr val="2d2525"/>
              </a:solidFill>
              <a:latin typeface="Times New Roman"/>
            </a:endParaRPr>
          </a:p>
        </p:txBody>
      </p:sp>
      <p:sp>
        <p:nvSpPr>
          <p:cNvPr id="477" name=""/>
          <p:cNvSpPr/>
          <p:nvPr/>
        </p:nvSpPr>
        <p:spPr>
          <a:xfrm>
            <a:off x="2438280" y="5392800"/>
            <a:ext cx="213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each proposition or sentence hold together within itself?</a:t>
            </a:r>
            <a:endParaRPr b="0" lang="en-US" sz="1800" spc="-1" strike="noStrike">
              <a:solidFill>
                <a:srgbClr val="2d2525"/>
              </a:solidFill>
              <a:latin typeface="Times New Roman"/>
            </a:endParaRPr>
          </a:p>
        </p:txBody>
      </p:sp>
      <p:sp>
        <p:nvSpPr>
          <p:cNvPr id="478" name=""/>
          <p:cNvSpPr/>
          <p:nvPr/>
        </p:nvSpPr>
        <p:spPr>
          <a:xfrm>
            <a:off x="0" y="4724280"/>
            <a:ext cx="237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 propositions or sentences fit together with each other?</a:t>
            </a:r>
            <a:endParaRPr b="0" lang="en-US" sz="1800" spc="-1" strike="noStrike">
              <a:solidFill>
                <a:srgbClr val="2d2525"/>
              </a:solidFill>
              <a:latin typeface="Times New Roman"/>
            </a:endParaRPr>
          </a:p>
        </p:txBody>
      </p:sp>
      <p:sp>
        <p:nvSpPr>
          <p:cNvPr id="479" name=""/>
          <p:cNvSpPr/>
          <p:nvPr/>
        </p:nvSpPr>
        <p:spPr>
          <a:xfrm>
            <a:off x="0" y="304920"/>
            <a:ext cx="199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s the information I understand in this text clear and complete?</a:t>
            </a:r>
            <a:endParaRPr b="0" lang="en-US" sz="1800" spc="-1" strike="noStrike">
              <a:solidFill>
                <a:srgbClr val="2d2525"/>
              </a:solidFill>
              <a:latin typeface="Times New Roman"/>
            </a:endParaRPr>
          </a:p>
        </p:txBody>
      </p:sp>
      <p:sp>
        <p:nvSpPr>
          <p:cNvPr id="480" name=""/>
          <p:cNvSpPr/>
          <p:nvPr/>
        </p:nvSpPr>
        <p:spPr>
          <a:xfrm>
            <a:off x="3657600" y="3581280"/>
            <a:ext cx="0" cy="76212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1" name=""/>
          <p:cNvSpPr/>
          <p:nvPr/>
        </p:nvSpPr>
        <p:spPr>
          <a:xfrm flipH="1">
            <a:off x="2742840" y="3581280"/>
            <a:ext cx="685800" cy="4572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2" name=""/>
          <p:cNvSpPr/>
          <p:nvPr/>
        </p:nvSpPr>
        <p:spPr>
          <a:xfrm flipH="1" flipV="1">
            <a:off x="3047760" y="2895480"/>
            <a:ext cx="152280" cy="1526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3" name=""/>
          <p:cNvSpPr/>
          <p:nvPr/>
        </p:nvSpPr>
        <p:spPr>
          <a:xfrm flipH="1" flipV="1">
            <a:off x="3581280" y="2362320"/>
            <a:ext cx="76320" cy="30456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4" name=""/>
          <p:cNvSpPr/>
          <p:nvPr/>
        </p:nvSpPr>
        <p:spPr>
          <a:xfrm flipV="1">
            <a:off x="4267080" y="2514600"/>
            <a:ext cx="609840" cy="380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5" name=""/>
          <p:cNvSpPr/>
          <p:nvPr/>
        </p:nvSpPr>
        <p:spPr>
          <a:xfrm>
            <a:off x="4267080" y="3200400"/>
            <a:ext cx="457200" cy="76320"/>
          </a:xfrm>
          <a:prstGeom prst="line">
            <a:avLst/>
          </a:prstGeom>
          <a:ln w="9360">
            <a:solidFill>
              <a:srgbClr val="2d2525"/>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2d2525"/>
              </a:solidFill>
              <a:latin typeface="Times New Roman"/>
            </a:endParaRPr>
          </a:p>
        </p:txBody>
      </p:sp>
      <p:sp>
        <p:nvSpPr>
          <p:cNvPr id="486" name=""/>
          <p:cNvSpPr/>
          <p:nvPr/>
        </p:nvSpPr>
        <p:spPr>
          <a:xfrm>
            <a:off x="4191120" y="3505320"/>
            <a:ext cx="685800" cy="6858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7" name=""/>
          <p:cNvSpPr/>
          <p:nvPr/>
        </p:nvSpPr>
        <p:spPr>
          <a:xfrm>
            <a:off x="0" y="6035760"/>
            <a:ext cx="222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Standards of Evaluation</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88" name=""/>
          <p:cNvSpPr/>
          <p:nvPr/>
        </p:nvSpPr>
        <p:spPr>
          <a:xfrm>
            <a:off x="4876920" y="2971800"/>
            <a:ext cx="1981080" cy="83808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89" name=""/>
          <p:cNvSpPr/>
          <p:nvPr/>
        </p:nvSpPr>
        <p:spPr>
          <a:xfrm>
            <a:off x="4724280" y="4495680"/>
            <a:ext cx="2133720" cy="3049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0" name=""/>
          <p:cNvSpPr/>
          <p:nvPr/>
        </p:nvSpPr>
        <p:spPr>
          <a:xfrm>
            <a:off x="2286000" y="4495680"/>
            <a:ext cx="2286000" cy="5335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1" name=""/>
          <p:cNvSpPr/>
          <p:nvPr/>
        </p:nvSpPr>
        <p:spPr>
          <a:xfrm>
            <a:off x="228600" y="3733920"/>
            <a:ext cx="236232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2" name=""/>
          <p:cNvSpPr/>
          <p:nvPr/>
        </p:nvSpPr>
        <p:spPr>
          <a:xfrm>
            <a:off x="4800600" y="1676520"/>
            <a:ext cx="220968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3" name=""/>
          <p:cNvSpPr/>
          <p:nvPr/>
        </p:nvSpPr>
        <p:spPr>
          <a:xfrm>
            <a:off x="2666880" y="1752480"/>
            <a:ext cx="1752840" cy="4572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4" name=""/>
          <p:cNvSpPr/>
          <p:nvPr/>
        </p:nvSpPr>
        <p:spPr>
          <a:xfrm>
            <a:off x="533520" y="2286000"/>
            <a:ext cx="2361960" cy="9144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5" name=""/>
          <p:cNvSpPr/>
          <p:nvPr/>
        </p:nvSpPr>
        <p:spPr>
          <a:xfrm>
            <a:off x="0" y="4648320"/>
            <a:ext cx="2133720" cy="1066680"/>
          </a:xfrm>
          <a:prstGeom prst="wedgeRoundRectCallout">
            <a:avLst>
              <a:gd name="adj1" fmla="val 1189"/>
              <a:gd name="adj2" fmla="val -72916"/>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6" name=""/>
          <p:cNvSpPr/>
          <p:nvPr/>
        </p:nvSpPr>
        <p:spPr>
          <a:xfrm>
            <a:off x="2286000" y="5334120"/>
            <a:ext cx="1905120" cy="1523880"/>
          </a:xfrm>
          <a:prstGeom prst="wedgeRoundRectCallout">
            <a:avLst>
              <a:gd name="adj1" fmla="val -11750"/>
              <a:gd name="adj2" fmla="val -69064"/>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7" name=""/>
          <p:cNvSpPr/>
          <p:nvPr/>
        </p:nvSpPr>
        <p:spPr>
          <a:xfrm>
            <a:off x="4724280" y="5334120"/>
            <a:ext cx="2286000" cy="1295280"/>
          </a:xfrm>
          <a:prstGeom prst="wedgeRoundRectCallout">
            <a:avLst>
              <a:gd name="adj1" fmla="val -20277"/>
              <a:gd name="adj2" fmla="val -91421"/>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8" name=""/>
          <p:cNvSpPr/>
          <p:nvPr/>
        </p:nvSpPr>
        <p:spPr>
          <a:xfrm>
            <a:off x="7238880" y="3048120"/>
            <a:ext cx="1905120" cy="1295280"/>
          </a:xfrm>
          <a:prstGeom prst="wedgeRoundRectCallout">
            <a:avLst>
              <a:gd name="adj1" fmla="val -71916"/>
              <a:gd name="adj2" fmla="val -8453"/>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9" name=""/>
          <p:cNvSpPr/>
          <p:nvPr/>
        </p:nvSpPr>
        <p:spPr>
          <a:xfrm>
            <a:off x="4800600" y="0"/>
            <a:ext cx="2819520" cy="1143000"/>
          </a:xfrm>
          <a:prstGeom prst="wedgeRoundRectCallout">
            <a:avLst>
              <a:gd name="adj1" fmla="val -26240"/>
              <a:gd name="adj2" fmla="val 8527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0" name=""/>
          <p:cNvSpPr/>
          <p:nvPr/>
        </p:nvSpPr>
        <p:spPr>
          <a:xfrm>
            <a:off x="2514600" y="0"/>
            <a:ext cx="1828800" cy="1371600"/>
          </a:xfrm>
          <a:prstGeom prst="wedgeRoundRectCallout">
            <a:avLst>
              <a:gd name="adj1" fmla="val -2518"/>
              <a:gd name="adj2" fmla="val 7534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1" name=""/>
          <p:cNvSpPr/>
          <p:nvPr/>
        </p:nvSpPr>
        <p:spPr>
          <a:xfrm>
            <a:off x="0" y="228600"/>
            <a:ext cx="2133720" cy="1295280"/>
          </a:xfrm>
          <a:prstGeom prst="wedgeRoundRectCallout">
            <a:avLst>
              <a:gd name="adj1" fmla="val 15773"/>
              <a:gd name="adj2" fmla="val 109805"/>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2" name=""/>
          <p:cNvSpPr/>
          <p:nvPr/>
        </p:nvSpPr>
        <p:spPr>
          <a:xfrm>
            <a:off x="2666520" y="175248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Lexical standard</a:t>
            </a:r>
            <a:endParaRPr b="0" lang="en-US" sz="1800" spc="-1" strike="noStrike">
              <a:solidFill>
                <a:srgbClr val="2d2525"/>
              </a:solidFill>
              <a:latin typeface="Times New Roman"/>
            </a:endParaRPr>
          </a:p>
        </p:txBody>
      </p:sp>
      <p:sp>
        <p:nvSpPr>
          <p:cNvPr id="503" name=""/>
          <p:cNvSpPr/>
          <p:nvPr/>
        </p:nvSpPr>
        <p:spPr>
          <a:xfrm>
            <a:off x="4876920" y="16765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External consistency standard</a:t>
            </a:r>
            <a:endParaRPr b="0" lang="en-US" sz="1800" spc="-1" strike="noStrike">
              <a:solidFill>
                <a:srgbClr val="2d2525"/>
              </a:solidFill>
              <a:latin typeface="Times New Roman"/>
            </a:endParaRPr>
          </a:p>
        </p:txBody>
      </p:sp>
      <p:sp>
        <p:nvSpPr>
          <p:cNvPr id="504" name=""/>
          <p:cNvSpPr/>
          <p:nvPr/>
        </p:nvSpPr>
        <p:spPr>
          <a:xfrm>
            <a:off x="4937040" y="3086280"/>
            <a:ext cx="245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nternal consistency standard</a:t>
            </a:r>
            <a:endParaRPr b="0" lang="en-US" sz="1800" spc="-1" strike="noStrike">
              <a:solidFill>
                <a:srgbClr val="2d2525"/>
              </a:solidFill>
              <a:latin typeface="Times New Roman"/>
            </a:endParaRPr>
          </a:p>
        </p:txBody>
      </p:sp>
      <p:sp>
        <p:nvSpPr>
          <p:cNvPr id="505" name=""/>
          <p:cNvSpPr/>
          <p:nvPr/>
        </p:nvSpPr>
        <p:spPr>
          <a:xfrm>
            <a:off x="4707720" y="4457880"/>
            <a:ext cx="203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yntactical standard</a:t>
            </a:r>
            <a:endParaRPr b="0" lang="en-US" sz="1800" spc="-1" strike="noStrike">
              <a:solidFill>
                <a:srgbClr val="2d2525"/>
              </a:solidFill>
              <a:latin typeface="Times New Roman"/>
            </a:endParaRPr>
          </a:p>
        </p:txBody>
      </p:sp>
      <p:sp>
        <p:nvSpPr>
          <p:cNvPr id="506" name=""/>
          <p:cNvSpPr/>
          <p:nvPr/>
        </p:nvSpPr>
        <p:spPr>
          <a:xfrm>
            <a:off x="2286000" y="44197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tructural cohesiveness standard</a:t>
            </a:r>
            <a:endParaRPr b="0" lang="en-US" sz="1800" spc="-1" strike="noStrike">
              <a:solidFill>
                <a:srgbClr val="2d2525"/>
              </a:solidFill>
              <a:latin typeface="Times New Roman"/>
            </a:endParaRPr>
          </a:p>
        </p:txBody>
      </p:sp>
      <p:sp>
        <p:nvSpPr>
          <p:cNvPr id="507" name=""/>
          <p:cNvSpPr/>
          <p:nvPr/>
        </p:nvSpPr>
        <p:spPr>
          <a:xfrm>
            <a:off x="380880" y="3809880"/>
            <a:ext cx="230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Propositional cohesiveness standard</a:t>
            </a:r>
            <a:endParaRPr b="0" lang="en-US" sz="1800" spc="-1" strike="noStrike">
              <a:solidFill>
                <a:srgbClr val="2d2525"/>
              </a:solidFill>
              <a:latin typeface="Times New Roman"/>
            </a:endParaRPr>
          </a:p>
        </p:txBody>
      </p:sp>
      <p:sp>
        <p:nvSpPr>
          <p:cNvPr id="508" name=""/>
          <p:cNvSpPr/>
          <p:nvPr/>
        </p:nvSpPr>
        <p:spPr>
          <a:xfrm>
            <a:off x="685800" y="243828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Clarity and completeness standard</a:t>
            </a:r>
            <a:endParaRPr b="0" lang="en-US" sz="1800" spc="-1" strike="noStrike">
              <a:solidFill>
                <a:srgbClr val="2d2525"/>
              </a:solidFill>
              <a:latin typeface="Times New Roman"/>
            </a:endParaRPr>
          </a:p>
        </p:txBody>
      </p:sp>
      <p:sp>
        <p:nvSpPr>
          <p:cNvPr id="509" name=""/>
          <p:cNvSpPr/>
          <p:nvPr/>
        </p:nvSpPr>
        <p:spPr>
          <a:xfrm>
            <a:off x="2590920" y="152280"/>
            <a:ext cx="1768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Can I read all the notes/rhythms in the piece?</a:t>
            </a:r>
            <a:endParaRPr b="0" lang="en-US" sz="1800" spc="-1" strike="noStrike">
              <a:solidFill>
                <a:srgbClr val="2d2525"/>
              </a:solidFill>
              <a:latin typeface="Times New Roman"/>
            </a:endParaRPr>
          </a:p>
        </p:txBody>
      </p:sp>
      <p:sp>
        <p:nvSpPr>
          <p:cNvPr id="510" name=""/>
          <p:cNvSpPr/>
          <p:nvPr/>
        </p:nvSpPr>
        <p:spPr>
          <a:xfrm>
            <a:off x="4800600" y="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my knowledge of the period/composer/etc. harmonize with the music I am playing?</a:t>
            </a:r>
            <a:endParaRPr b="0" lang="en-US" sz="1800" spc="-1" strike="noStrike">
              <a:solidFill>
                <a:srgbClr val="2d2525"/>
              </a:solidFill>
              <a:latin typeface="Times New Roman"/>
            </a:endParaRPr>
          </a:p>
        </p:txBody>
      </p:sp>
      <p:sp>
        <p:nvSpPr>
          <p:cNvPr id="511" name=""/>
          <p:cNvSpPr/>
          <p:nvPr/>
        </p:nvSpPr>
        <p:spPr>
          <a:xfrm>
            <a:off x="7299360" y="3086280"/>
            <a:ext cx="184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s this music internally consistent (style, form, etc.)? </a:t>
            </a:r>
            <a:endParaRPr b="0" lang="en-US" sz="1800" spc="-1" strike="noStrike">
              <a:solidFill>
                <a:srgbClr val="2d2525"/>
              </a:solidFill>
              <a:latin typeface="Times New Roman"/>
            </a:endParaRPr>
          </a:p>
        </p:txBody>
      </p:sp>
      <p:sp>
        <p:nvSpPr>
          <p:cNvPr id="512" name=""/>
          <p:cNvSpPr/>
          <p:nvPr/>
        </p:nvSpPr>
        <p:spPr>
          <a:xfrm>
            <a:off x="4861080" y="5372280"/>
            <a:ext cx="222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the music make sense (e.g., chord progression, form)?</a:t>
            </a:r>
            <a:endParaRPr b="0" lang="en-US" sz="1800" spc="-1" strike="noStrike">
              <a:solidFill>
                <a:srgbClr val="2d2525"/>
              </a:solidFill>
              <a:latin typeface="Times New Roman"/>
            </a:endParaRPr>
          </a:p>
        </p:txBody>
      </p:sp>
      <p:sp>
        <p:nvSpPr>
          <p:cNvPr id="513" name=""/>
          <p:cNvSpPr/>
          <p:nvPr/>
        </p:nvSpPr>
        <p:spPr>
          <a:xfrm>
            <a:off x="2438280" y="57913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the form hold together?</a:t>
            </a:r>
            <a:endParaRPr b="0" lang="en-US" sz="1800" spc="-1" strike="noStrike">
              <a:solidFill>
                <a:srgbClr val="2d2525"/>
              </a:solidFill>
              <a:latin typeface="Times New Roman"/>
            </a:endParaRPr>
          </a:p>
        </p:txBody>
      </p:sp>
      <p:sp>
        <p:nvSpPr>
          <p:cNvPr id="514" name=""/>
          <p:cNvSpPr/>
          <p:nvPr/>
        </p:nvSpPr>
        <p:spPr>
          <a:xfrm>
            <a:off x="0" y="4724280"/>
            <a:ext cx="237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How does each phrase contribute to the whole?</a:t>
            </a:r>
            <a:endParaRPr b="0" lang="en-US" sz="1800" spc="-1" strike="noStrike">
              <a:solidFill>
                <a:srgbClr val="2d2525"/>
              </a:solidFill>
              <a:latin typeface="Times New Roman"/>
            </a:endParaRPr>
          </a:p>
        </p:txBody>
      </p:sp>
      <p:sp>
        <p:nvSpPr>
          <p:cNvPr id="515" name=""/>
          <p:cNvSpPr/>
          <p:nvPr/>
        </p:nvSpPr>
        <p:spPr>
          <a:xfrm>
            <a:off x="0" y="304920"/>
            <a:ext cx="199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s the form, etc., clear?  </a:t>
            </a:r>
            <a:endParaRPr b="0" lang="en-US" sz="1800" spc="-1" strike="noStrike">
              <a:solidFill>
                <a:srgbClr val="2d2525"/>
              </a:solidFill>
              <a:latin typeface="Times New Roman"/>
            </a:endParaRPr>
          </a:p>
        </p:txBody>
      </p:sp>
      <p:sp>
        <p:nvSpPr>
          <p:cNvPr id="516" name=""/>
          <p:cNvSpPr/>
          <p:nvPr/>
        </p:nvSpPr>
        <p:spPr>
          <a:xfrm>
            <a:off x="3657600" y="3581280"/>
            <a:ext cx="0" cy="76212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17" name=""/>
          <p:cNvSpPr/>
          <p:nvPr/>
        </p:nvSpPr>
        <p:spPr>
          <a:xfrm flipH="1">
            <a:off x="2742840" y="3581280"/>
            <a:ext cx="685800" cy="4572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18" name=""/>
          <p:cNvSpPr/>
          <p:nvPr/>
        </p:nvSpPr>
        <p:spPr>
          <a:xfrm flipH="1" flipV="1">
            <a:off x="3047760" y="2895480"/>
            <a:ext cx="152280" cy="1526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19" name=""/>
          <p:cNvSpPr/>
          <p:nvPr/>
        </p:nvSpPr>
        <p:spPr>
          <a:xfrm flipH="1" flipV="1">
            <a:off x="3581280" y="2362320"/>
            <a:ext cx="76320" cy="30456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20" name=""/>
          <p:cNvSpPr/>
          <p:nvPr/>
        </p:nvSpPr>
        <p:spPr>
          <a:xfrm flipV="1">
            <a:off x="4267080" y="2514600"/>
            <a:ext cx="609840" cy="380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21" name=""/>
          <p:cNvSpPr/>
          <p:nvPr/>
        </p:nvSpPr>
        <p:spPr>
          <a:xfrm>
            <a:off x="4267080" y="3200400"/>
            <a:ext cx="457200" cy="76320"/>
          </a:xfrm>
          <a:prstGeom prst="line">
            <a:avLst/>
          </a:prstGeom>
          <a:ln w="9360">
            <a:solidFill>
              <a:srgbClr val="2d2525"/>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2d2525"/>
              </a:solidFill>
              <a:latin typeface="Times New Roman"/>
            </a:endParaRPr>
          </a:p>
        </p:txBody>
      </p:sp>
      <p:sp>
        <p:nvSpPr>
          <p:cNvPr id="522" name=""/>
          <p:cNvSpPr/>
          <p:nvPr/>
        </p:nvSpPr>
        <p:spPr>
          <a:xfrm>
            <a:off x="4191120" y="3505320"/>
            <a:ext cx="685800" cy="6858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23" name=""/>
          <p:cNvSpPr/>
          <p:nvPr/>
        </p:nvSpPr>
        <p:spPr>
          <a:xfrm>
            <a:off x="0" y="5851440"/>
            <a:ext cx="2225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Standards of Evaluation, Applied to Music</a:t>
            </a:r>
            <a:endParaRPr b="0" lang="en-US" sz="2000" spc="-1" strike="noStrike">
              <a:solidFill>
                <a:srgbClr val="2d2525"/>
              </a:solidFill>
              <a:latin typeface="Times New Roman"/>
            </a:endParaRPr>
          </a:p>
        </p:txBody>
      </p:sp>
      <p:sp>
        <p:nvSpPr>
          <p:cNvPr id="524" name="Music"/>
          <p:cNvSpPr/>
          <p:nvPr/>
        </p:nvSpPr>
        <p:spPr>
          <a:xfrm>
            <a:off x="2971800" y="2590920"/>
            <a:ext cx="1325520" cy="1325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re on Good Readers</a:t>
            </a:r>
            <a:endParaRPr b="0" lang="en-US" sz="4400" spc="-1" strike="noStrike">
              <a:solidFill>
                <a:srgbClr val="061c62"/>
              </a:solidFill>
              <a:latin typeface="Times New Roman"/>
            </a:endParaRPr>
          </a:p>
        </p:txBody>
      </p:sp>
      <p:sp>
        <p:nvSpPr>
          <p:cNvPr id="1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f course good readers do not engage in all of these praiseworthy mental activities whenever they read, but many good readers have access to these skills and use them automatically or selectively to help themselves comprehend text.  As we build a mental model of the reading process, we will want to be able to take account of all of these activities (as well as several others) and their contributions to the construction of meaning during the reading proces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tandards of evaluation</a:t>
            </a:r>
            <a:endParaRPr b="0" lang="en-US" sz="4400" spc="-1" strike="noStrike">
              <a:solidFill>
                <a:srgbClr val="061c62"/>
              </a:solidFill>
              <a:latin typeface="Times New Roman"/>
            </a:endParaRPr>
          </a:p>
        </p:txBody>
      </p:sp>
      <p:sp>
        <p:nvSpPr>
          <p:cNvPr id="5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mong the strategies that good readers may use to enhance their comprehension of a text is the application of standards of evaluation.  Baker (1985) identifies a number of comprehension-monitoring standards that influence the quality of the internal text representation.  These standards include the questions you might ask yourself (see previous slides), consciously or unconsciously, about your evolving internal text representation.  If you ask yourself these kinds of questions, you are systematically reviewing your internal text representation.  We do know that good readers, those with high verbal ability, use these standards more frequently than readers with less ability.</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strategies</a:t>
            </a:r>
            <a:endParaRPr b="0" lang="en-US" sz="4400" spc="-1" strike="noStrike">
              <a:solidFill>
                <a:srgbClr val="061c62"/>
              </a:solidFill>
              <a:latin typeface="Times New Roman"/>
            </a:endParaRPr>
          </a:p>
        </p:txBody>
      </p:sp>
      <p:sp>
        <p:nvSpPr>
          <p:cNvPr id="5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trategic readers also have an assortment of metacognitive strategies that they can activate and apply if and when they find that something has gone amiss during the construction of a text representation.  Metacognitive strategies are routines or procedures designed to help readers promote the meaning construction process.  Garner (1992) defines strategies as “sequences of activities undertaken to reach goals efficiently” (p. 245).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trategy selection</a:t>
            </a:r>
            <a:endParaRPr b="0" lang="en-US" sz="4400" spc="-1" strike="noStrike">
              <a:solidFill>
                <a:srgbClr val="061c62"/>
              </a:solidFill>
              <a:latin typeface="Times New Roman"/>
            </a:endParaRPr>
          </a:p>
        </p:txBody>
      </p:sp>
      <p:sp>
        <p:nvSpPr>
          <p:cNvPr id="5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trategy selection, another critical metacognitive process, includes a broad overview of  the entire comprehension problem, resistance to quick-fix solutions, choice of procedures that most closely fit the problems as represented, and a readiness to monitor and modify the strategy selected if it fails to solve the perceived problem.  For example, if you were having trouble keeping track of new terms and concepts while reading this chapter, what strategy would you use to address the problem you noticed?  If you decided to use a marker to underline new terms and concepts but found that strategy wasn’t working, would you change strategies, perhaps begin to take notes, to rectify your recognition of strategy breakdow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lanning</a:t>
            </a:r>
            <a:endParaRPr b="0" lang="en-US" sz="4400" spc="-1" strike="noStrike">
              <a:solidFill>
                <a:srgbClr val="061c62"/>
              </a:solidFill>
              <a:latin typeface="Times New Roman"/>
            </a:endParaRPr>
          </a:p>
        </p:txBody>
      </p:sp>
      <p:sp>
        <p:nvSpPr>
          <p:cNvPr id="5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hen skilled readers encounter comprehension problems while forming a text representation, metacognitive planning can enable them to decide on an appropriate course of action to solve the problems.  Readers may develop plans, review them, and select the plan that appears to have the most problem solving promise.  For example, when readers face a challenging reading task, they may design a plan with subgoals and multifaceted, but related activities, including using different reading rates, graphic organizers, and textual, technological, and human resource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Up to now, we have been looking into the “meaning construction zone” within a reader’s mind.  Sometimes comparing the mind to a computer, I have tried to break apart an organic, instantaneous process that occurs on many levels, frequently at the same time, into its many components.  The hypothesized reader constructed all the knowledge alone, only from interactions with the text.  That reader built a unique internal text representation or understanding of a text.  But in classrooms, internal text representations rarely stay forever hidden inside students’ minds.  In class, interpretations of texts get talked through as students and teachers share and reflect upon the meanings they have constructe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a classroom teacher, I have often been surprised by what students tell me they think a passage they have read is about.   While this happens more frequently when I teach Shakespeare or Emerson than when I teach with standard expository texts, I am always interested in the roots of diverse interpretations.  When teaching poetry, I find the variety of interpretations intriguing, even exhilarating.  But I hadn’t always found the tensions between interpretations so valuable as opportunities to teach for understanding and for thinking.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38"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During my college training, a form of literary criticism that was having its hayday was “New Criticism.”  Readers learned to look for meaning in the text itself.  We traced imagery, interpreted symbols, examined metaphors, and hunted for mythic allusions that would allow us to open the text to richer readings.  Knowledgeable critics with impressive influence held no small power over authors included in the canon as well as meanings that certain texts contained.  Because certain critics brought vast amounts of experience, knowledge, authority, and prestige with them to their readings, college sophomores could be intimidated into believing that these “expert” interpretations must be the ones not only respected but acknowledged as supreme.  Deferring to expert authority was made easy for most of my classmates.  We were told the critics knew what they were talking about.</a:t>
            </a:r>
            <a:endParaRPr b="0" i="1" lang="en-US" sz="2000" spc="-1" strike="noStrike">
              <a:solidFill>
                <a:srgbClr val="2d2525"/>
              </a:solidFill>
              <a:latin typeface="Times New Roman"/>
            </a:endParaRPr>
          </a:p>
        </p:txBody>
      </p:sp>
      <p:sp>
        <p:nvSpPr>
          <p:cNvPr id="539" name=""/>
          <p:cNvSpPr/>
          <p:nvPr/>
        </p:nvSpPr>
        <p:spPr>
          <a:xfrm>
            <a:off x="136440" y="5348160"/>
            <a:ext cx="7483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Canon:  English Department-ese for the collection of texts that get studied.  In the times Unrau is discussing, the canon was not particularly diverse, representing few female or non-white authors.</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However, ideals change.  And so do the ways educators evaluate the merit of interpreters and their interpretations.  With the waxing of reader response theory came the waning of “expert” readings.  Much of the support for this shift came from the growing influence of reader response theorists, like Louise Rosenblatt and Richard Beach.</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3" name="PlaceHolder 2"/>
          <p:cNvSpPr>
            <a:spLocks noGrp="1"/>
          </p:cNvSpPr>
          <p:nvPr>
            <p:ph/>
          </p:nvPr>
        </p:nvSpPr>
        <p:spPr>
          <a:xfrm>
            <a:off x="228600" y="121932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Rosenblatt’s transactional theory of reading, every act of reading is a transaction between a particular reader and a particular text at a particular time in a particular context.  The reader and the text compose a transactional moment.  The meaning doesn’t pre-exist in the text or in the reader but result from the transaction between reader and text.</a:t>
            </a:r>
            <a:endParaRPr b="0" i="1" lang="en-US" sz="2800" spc="-1" strike="noStrike">
              <a:solidFill>
                <a:srgbClr val="2d2525"/>
              </a:solidFill>
              <a:latin typeface="Times New Roman"/>
            </a:endParaRPr>
          </a:p>
        </p:txBody>
      </p:sp>
      <p:sp>
        <p:nvSpPr>
          <p:cNvPr id="544" name=""/>
          <p:cNvSpPr/>
          <p:nvPr/>
        </p:nvSpPr>
        <p:spPr>
          <a:xfrm>
            <a:off x="0" y="4952880"/>
            <a:ext cx="7940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The obvious musical analogy to reader response theory would be the idea that each person interprets a piece differently.  We not only have the notes that Tchaikovsky wrote in his violin concerto, but we have the interpretations by Heifitz vs. Perlman vs. anyone else.  In the music world, this transaction between the composer and the performer is very important.</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In addition, Rosenblatt believes that readers adopt stances toward texts that guide their processing.  Reader’s stance refers to the reader’s perspective and orientation toward the text.  The stance, which directs the reader’s focus of motivation and purpose for reading, is to varying degrees under the reader’s control.  She believes that readers experience texts through two stances on a continuum:  efferent to aesthetic.  With efferent reading, the reader focuses on information to be taken from the text. With aesthetic reading, the reader becomes absorbed in the imaginative world of character, plot, and setting evoked by the text.  Efferent and aesthetic stances may be mixed to different degrees.  Or the reader may elect to emphasize one stance over the other.  This occurs when a reader adopts the efferent stand when reading Dickens’s Great Expectations to find out what traits to include in an essay about Pip’s growth as a character in the novel.  Rosenblatt has observed a tendency in classrooms to emphasize efferent readings while minimizing aesthetic ones, a tendency that may reduce students’ pleasure and enjoyment of transacting with literature.</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s of the Good Reader</a:t>
            </a:r>
            <a:endParaRPr b="0" lang="en-US" sz="4400" spc="-1" strike="noStrike">
              <a:solidFill>
                <a:srgbClr val="061c62"/>
              </a:solidFill>
              <a:latin typeface="Times New Roman"/>
            </a:endParaRPr>
          </a:p>
        </p:txBody>
      </p:sp>
      <p:pic>
        <p:nvPicPr>
          <p:cNvPr id="118" name="" descr=""/>
          <p:cNvPicPr/>
          <p:nvPr/>
        </p:nvPicPr>
        <p:blipFill>
          <a:blip r:embed="rId1"/>
          <a:stretch/>
        </p:blipFill>
        <p:spPr>
          <a:xfrm>
            <a:off x="3429000" y="2819520"/>
            <a:ext cx="1143000" cy="982440"/>
          </a:xfrm>
          <a:prstGeom prst="rect">
            <a:avLst/>
          </a:prstGeom>
          <a:ln w="0">
            <a:noFill/>
          </a:ln>
        </p:spPr>
      </p:pic>
      <p:sp>
        <p:nvSpPr>
          <p:cNvPr id="119" name=""/>
          <p:cNvSpPr/>
          <p:nvPr/>
        </p:nvSpPr>
        <p:spPr>
          <a:xfrm>
            <a:off x="685800" y="1981080"/>
            <a:ext cx="1676520" cy="83844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20" name=""/>
          <p:cNvSpPr/>
          <p:nvPr/>
        </p:nvSpPr>
        <p:spPr>
          <a:xfrm>
            <a:off x="2819520" y="1676520"/>
            <a:ext cx="1676160" cy="83808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1" name=""/>
          <p:cNvSpPr/>
          <p:nvPr/>
        </p:nvSpPr>
        <p:spPr>
          <a:xfrm>
            <a:off x="5257800" y="2209680"/>
            <a:ext cx="1676520" cy="83844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2" name=""/>
          <p:cNvSpPr/>
          <p:nvPr/>
        </p:nvSpPr>
        <p:spPr>
          <a:xfrm>
            <a:off x="609480" y="3886200"/>
            <a:ext cx="1676520" cy="83808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3" name=""/>
          <p:cNvSpPr/>
          <p:nvPr/>
        </p:nvSpPr>
        <p:spPr>
          <a:xfrm>
            <a:off x="3200400" y="4419720"/>
            <a:ext cx="1676520" cy="83808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4" name=""/>
          <p:cNvSpPr/>
          <p:nvPr/>
        </p:nvSpPr>
        <p:spPr>
          <a:xfrm>
            <a:off x="5562720" y="4038480"/>
            <a:ext cx="1676160" cy="83844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5" name=""/>
          <p:cNvSpPr/>
          <p:nvPr/>
        </p:nvSpPr>
        <p:spPr>
          <a:xfrm>
            <a:off x="609480" y="1981080"/>
            <a:ext cx="1866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read at 1000 words/minute and more</a:t>
            </a:r>
            <a:endParaRPr b="0" lang="en-US" sz="1800" spc="-1" strike="noStrike">
              <a:solidFill>
                <a:srgbClr val="2d2525"/>
              </a:solidFill>
              <a:latin typeface="Times New Roman"/>
            </a:endParaRPr>
          </a:p>
        </p:txBody>
      </p:sp>
      <p:sp>
        <p:nvSpPr>
          <p:cNvPr id="126" name=""/>
          <p:cNvSpPr/>
          <p:nvPr/>
        </p:nvSpPr>
        <p:spPr>
          <a:xfrm>
            <a:off x="3048120" y="18288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don’t subvocalize</a:t>
            </a:r>
            <a:endParaRPr b="0" lang="en-US" sz="1800" spc="-1" strike="noStrike">
              <a:solidFill>
                <a:srgbClr val="2d2525"/>
              </a:solidFill>
              <a:latin typeface="Times New Roman"/>
            </a:endParaRPr>
          </a:p>
        </p:txBody>
      </p:sp>
      <p:sp>
        <p:nvSpPr>
          <p:cNvPr id="127" name=""/>
          <p:cNvSpPr/>
          <p:nvPr/>
        </p:nvSpPr>
        <p:spPr>
          <a:xfrm>
            <a:off x="5334120" y="228600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only read key words</a:t>
            </a:r>
            <a:endParaRPr b="0" lang="en-US" sz="1800" spc="-1" strike="noStrike">
              <a:solidFill>
                <a:srgbClr val="2d2525"/>
              </a:solidFill>
              <a:latin typeface="Times New Roman"/>
            </a:endParaRPr>
          </a:p>
        </p:txBody>
      </p:sp>
      <p:sp>
        <p:nvSpPr>
          <p:cNvPr id="128" name=""/>
          <p:cNvSpPr/>
          <p:nvPr/>
        </p:nvSpPr>
        <p:spPr>
          <a:xfrm>
            <a:off x="5562720" y="411480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recognize words as wholes</a:t>
            </a:r>
            <a:endParaRPr b="0" lang="en-US" sz="1800" spc="-1" strike="noStrike">
              <a:solidFill>
                <a:srgbClr val="2d2525"/>
              </a:solidFill>
              <a:latin typeface="Times New Roman"/>
            </a:endParaRPr>
          </a:p>
        </p:txBody>
      </p:sp>
      <p:sp>
        <p:nvSpPr>
          <p:cNvPr id="129" name=""/>
          <p:cNvSpPr/>
          <p:nvPr/>
        </p:nvSpPr>
        <p:spPr>
          <a:xfrm>
            <a:off x="3200400" y="441972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read groups of words as one unit of thought</a:t>
            </a:r>
            <a:endParaRPr b="0" lang="en-US" sz="1800" spc="-1" strike="noStrike">
              <a:solidFill>
                <a:srgbClr val="2d2525"/>
              </a:solidFill>
              <a:latin typeface="Times New Roman"/>
            </a:endParaRPr>
          </a:p>
        </p:txBody>
      </p:sp>
      <p:sp>
        <p:nvSpPr>
          <p:cNvPr id="130" name=""/>
          <p:cNvSpPr/>
          <p:nvPr/>
        </p:nvSpPr>
        <p:spPr>
          <a:xfrm>
            <a:off x="838080" y="403848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never look back</a:t>
            </a:r>
            <a:endParaRPr b="0" lang="en-US" sz="1800" spc="-1" strike="noStrike">
              <a:solidFill>
                <a:srgbClr val="2d2525"/>
              </a:solidFill>
              <a:latin typeface="Times New Roman"/>
            </a:endParaRPr>
          </a:p>
        </p:txBody>
      </p:sp>
      <p:sp>
        <p:nvSpPr>
          <p:cNvPr id="131" name=""/>
          <p:cNvSpPr/>
          <p:nvPr/>
        </p:nvSpPr>
        <p:spPr>
          <a:xfrm flipH="1" flipV="1">
            <a:off x="2285640" y="2743200"/>
            <a:ext cx="1066680" cy="53352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2" name=""/>
          <p:cNvSpPr/>
          <p:nvPr/>
        </p:nvSpPr>
        <p:spPr>
          <a:xfrm flipH="1">
            <a:off x="2438280" y="3733920"/>
            <a:ext cx="1067040" cy="38088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3" name=""/>
          <p:cNvSpPr/>
          <p:nvPr/>
        </p:nvSpPr>
        <p:spPr>
          <a:xfrm flipH="1" flipV="1">
            <a:off x="3733560" y="2514240"/>
            <a:ext cx="75960" cy="22860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4" name=""/>
          <p:cNvSpPr/>
          <p:nvPr/>
        </p:nvSpPr>
        <p:spPr>
          <a:xfrm flipV="1">
            <a:off x="4572000" y="2895120"/>
            <a:ext cx="762120" cy="30492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5" name=""/>
          <p:cNvSpPr/>
          <p:nvPr/>
        </p:nvSpPr>
        <p:spPr>
          <a:xfrm>
            <a:off x="4495680" y="3733920"/>
            <a:ext cx="1067040" cy="45720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6" name=""/>
          <p:cNvSpPr/>
          <p:nvPr/>
        </p:nvSpPr>
        <p:spPr>
          <a:xfrm>
            <a:off x="4038480" y="3809880"/>
            <a:ext cx="0" cy="45720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8"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ome educators and literacy specialists have taken the position that an objective meaning can be found in the text.  However, others with a view more similar to Rosenblatt have argued that the meaning of a text is a more personal response to be found in the reader’s mind, perhaps to be authorized by an interpretive community, but certainly not in an objective text.  Meaning may best be understood as a result of the reader’s meaning construction that engages readers’ unique patterns of background knowledge and cognitive processing. That meaning is not entirely in either the text or the reader but evolves from interactions among reader, text, teacher, classroom community, and context.</a:t>
            </a:r>
            <a:endParaRPr b="0" i="1" lang="en-US" sz="2000" spc="-1" strike="noStrike">
              <a:solidFill>
                <a:srgbClr val="2d2525"/>
              </a:solidFill>
              <a:latin typeface="Times New Roman"/>
            </a:endParaRPr>
          </a:p>
        </p:txBody>
      </p:sp>
      <p:sp>
        <p:nvSpPr>
          <p:cNvPr id="549" name=""/>
          <p:cNvSpPr/>
          <p:nvPr/>
        </p:nvSpPr>
        <p:spPr>
          <a:xfrm>
            <a:off x="0" y="4419720"/>
            <a:ext cx="7940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When you are reading music, a quarter note is a quarter note is a quarter note and there’s no getting around that interpretation.  But when it comes to issues of rubato, articulation, and even tempo, there is room for a wide variety of interpretations.  Like theories in English, musical interpretations change with every generation.  In the 1960’s, performers tended to play Baroque music with a Romantic style.  When I was in school in the late 1970’s and early 1980’s the new thing was to try to recreate the sound of the original performances, including stylistic features.  </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50" name=""/>
          <p:cNvSpPr/>
          <p:nvPr/>
        </p:nvSpPr>
        <p:spPr>
          <a:xfrm>
            <a:off x="2743200" y="2819520"/>
            <a:ext cx="1676520" cy="175248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51" name=""/>
          <p:cNvSpPr/>
          <p:nvPr/>
        </p:nvSpPr>
        <p:spPr>
          <a:xfrm>
            <a:off x="3505320" y="2133720"/>
            <a:ext cx="1676160" cy="175248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52" name=""/>
          <p:cNvSpPr/>
          <p:nvPr/>
        </p:nvSpPr>
        <p:spPr>
          <a:xfrm>
            <a:off x="2133720" y="2057400"/>
            <a:ext cx="1676160" cy="175248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553" name="" descr=""/>
          <p:cNvPicPr/>
          <p:nvPr/>
        </p:nvPicPr>
        <p:blipFill>
          <a:blip r:embed="rId1"/>
          <a:srcRect l="1571" t="0" r="0" b="62637"/>
          <a:stretch/>
        </p:blipFill>
        <p:spPr>
          <a:xfrm>
            <a:off x="3124080" y="2895480"/>
            <a:ext cx="1082880" cy="674640"/>
          </a:xfrm>
          <a:prstGeom prst="rect">
            <a:avLst/>
          </a:prstGeom>
          <a:ln w="0">
            <a:noFill/>
          </a:ln>
        </p:spPr>
      </p:pic>
      <p:sp>
        <p:nvSpPr>
          <p:cNvPr id="554" name=""/>
          <p:cNvSpPr/>
          <p:nvPr/>
        </p:nvSpPr>
        <p:spPr>
          <a:xfrm>
            <a:off x="914400" y="914400"/>
            <a:ext cx="5410080" cy="525780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55" name=""/>
          <p:cNvSpPr/>
          <p:nvPr/>
        </p:nvSpPr>
        <p:spPr>
          <a:xfrm>
            <a:off x="2286720" y="241128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Reader</a:t>
            </a:r>
            <a:endParaRPr b="0" lang="en-US" sz="2000" spc="-1" strike="noStrike">
              <a:solidFill>
                <a:srgbClr val="2d2525"/>
              </a:solidFill>
              <a:latin typeface="Times New Roman"/>
            </a:endParaRPr>
          </a:p>
        </p:txBody>
      </p:sp>
      <p:sp>
        <p:nvSpPr>
          <p:cNvPr id="556" name=""/>
          <p:cNvSpPr/>
          <p:nvPr/>
        </p:nvSpPr>
        <p:spPr>
          <a:xfrm>
            <a:off x="3810240" y="24112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eacher</a:t>
            </a:r>
            <a:endParaRPr b="0" lang="en-US" sz="2000" spc="-1" strike="noStrike">
              <a:solidFill>
                <a:srgbClr val="2d2525"/>
              </a:solidFill>
              <a:latin typeface="Times New Roman"/>
            </a:endParaRPr>
          </a:p>
        </p:txBody>
      </p:sp>
      <p:sp>
        <p:nvSpPr>
          <p:cNvPr id="557" name=""/>
          <p:cNvSpPr/>
          <p:nvPr/>
        </p:nvSpPr>
        <p:spPr>
          <a:xfrm>
            <a:off x="2895480" y="3657600"/>
            <a:ext cx="1768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Classroom Community</a:t>
            </a:r>
            <a:endParaRPr b="0" lang="en-US" sz="2000" spc="-1" strike="noStrike">
              <a:solidFill>
                <a:srgbClr val="2d2525"/>
              </a:solidFill>
              <a:latin typeface="Times New Roman"/>
            </a:endParaRPr>
          </a:p>
        </p:txBody>
      </p:sp>
      <p:sp>
        <p:nvSpPr>
          <p:cNvPr id="558" name=""/>
          <p:cNvSpPr/>
          <p:nvPr/>
        </p:nvSpPr>
        <p:spPr>
          <a:xfrm>
            <a:off x="3124080" y="1143000"/>
            <a:ext cx="1905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Meaning negotiation process</a:t>
            </a:r>
            <a:endParaRPr b="0" lang="en-US" sz="2000" spc="-1" strike="noStrike">
              <a:solidFill>
                <a:srgbClr val="2d2525"/>
              </a:solidFill>
              <a:latin typeface="Times New Roman"/>
            </a:endParaRPr>
          </a:p>
        </p:txBody>
      </p:sp>
      <p:sp>
        <p:nvSpPr>
          <p:cNvPr id="559" name=""/>
          <p:cNvSpPr/>
          <p:nvPr/>
        </p:nvSpPr>
        <p:spPr>
          <a:xfrm>
            <a:off x="2133720" y="4724280"/>
            <a:ext cx="2819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ext, task, source of authority, and sociocultural meanings</a:t>
            </a:r>
            <a:endParaRPr b="0" lang="en-US" sz="2000" spc="-1" strike="noStrike">
              <a:solidFill>
                <a:srgbClr val="2d2525"/>
              </a:solidFill>
              <a:latin typeface="Times New Roman"/>
            </a:endParaRPr>
          </a:p>
        </p:txBody>
      </p:sp>
      <p:sp>
        <p:nvSpPr>
          <p:cNvPr id="560" name=""/>
          <p:cNvSpPr/>
          <p:nvPr/>
        </p:nvSpPr>
        <p:spPr>
          <a:xfrm>
            <a:off x="2283480" y="3049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Learning environment</a:t>
            </a:r>
            <a:endParaRPr b="0" lang="en-US" sz="2400" spc="-1" strike="noStrike">
              <a:solidFill>
                <a:srgbClr val="2d2525"/>
              </a:solidFill>
              <a:latin typeface="Times New Roman"/>
            </a:endParaRPr>
          </a:p>
        </p:txBody>
      </p:sp>
      <p:sp>
        <p:nvSpPr>
          <p:cNvPr id="561" name=""/>
          <p:cNvSpPr/>
          <p:nvPr/>
        </p:nvSpPr>
        <p:spPr>
          <a:xfrm>
            <a:off x="914400" y="3352680"/>
            <a:ext cx="0" cy="152640"/>
          </a:xfrm>
          <a:prstGeom prst="line">
            <a:avLst/>
          </a:prstGeom>
          <a:ln w="2232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2" name=""/>
          <p:cNvSpPr/>
          <p:nvPr/>
        </p:nvSpPr>
        <p:spPr>
          <a:xfrm>
            <a:off x="3200400" y="6172200"/>
            <a:ext cx="304920" cy="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3" name=""/>
          <p:cNvSpPr/>
          <p:nvPr/>
        </p:nvSpPr>
        <p:spPr>
          <a:xfrm flipV="1">
            <a:off x="6324480" y="3581280"/>
            <a:ext cx="0" cy="1526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4" name=""/>
          <p:cNvSpPr/>
          <p:nvPr/>
        </p:nvSpPr>
        <p:spPr>
          <a:xfrm flipH="1">
            <a:off x="3657240" y="914400"/>
            <a:ext cx="152280" cy="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5" name=""/>
          <p:cNvSpPr/>
          <p:nvPr/>
        </p:nvSpPr>
        <p:spPr>
          <a:xfrm>
            <a:off x="-9000" y="6400800"/>
            <a:ext cx="736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ake a moment to consider how this might apply to music.</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67"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ith these interaction features in mind, Robert Ruddell and I (Unrau &amp; Ruddell, 1995) designed a model [slide 131] that represents text interpretation in classroom contexts.  The model was induced from numerous studies, both theoretical and empirical as well as my own classroom teaching experience.  The model was designed with a social constructivist perspective of learning in mind.  Accordingly, we as teachers create a learning environment that engages students in a meaning negotiation process over texts.  During that process, we and our students construct and negotiate meanings not only for the text itself but also for tasks, sources of authority, and features of the sociocultural setting.</a:t>
            </a:r>
            <a:endParaRPr b="0" i="1" lang="en-US" sz="2000" spc="-1" strike="noStrike">
              <a:solidFill>
                <a:srgbClr val="2d2525"/>
              </a:solidFill>
              <a:latin typeface="Times New Roman"/>
            </a:endParaRPr>
          </a:p>
        </p:txBody>
      </p:sp>
      <p:sp>
        <p:nvSpPr>
          <p:cNvPr id="568" name=""/>
          <p:cNvSpPr/>
          <p:nvPr/>
        </p:nvSpPr>
        <p:spPr>
          <a:xfrm>
            <a:off x="0" y="4419720"/>
            <a:ext cx="7940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Reminder:  “Social constructivist perspective” is one perspective on how teaching and learning occur.  It is not the only perspective, but it is congruent with the Praxis II perspective, so it’s important to learn it.  “Social” means that peers are significant (as in Vygotsky).  It also means that meaning is not merely in the text, but in the interaction between the </a:t>
            </a:r>
            <a:r>
              <a:rPr b="0" i="1" lang="en-US" sz="1800" spc="-1" strike="noStrike">
                <a:solidFill>
                  <a:srgbClr val="365d96"/>
                </a:solidFill>
                <a:latin typeface="Times New Roman"/>
              </a:rPr>
              <a:t>community</a:t>
            </a:r>
            <a:r>
              <a:rPr b="0" lang="en-US" sz="1800" spc="-1" strike="noStrike">
                <a:solidFill>
                  <a:srgbClr val="365d96"/>
                </a:solidFill>
                <a:latin typeface="Times New Roman"/>
              </a:rPr>
              <a:t> of readers and the text.  “Constructivist” means that students construct knowledge.  They are not empty vessels waiting to be filled with the teacher’s wisdom, but they put ideas together for themselves.  </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7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text and classroom context includes the text, task, sources of authority, and sociocultural meanings.  The design and features of that environment have a strong influence not only on a student’s decision to read but also on the ways in which the reading progresses.  Our students are more likely to engage in reading if they are motivated, if their prior knowledge is activated, if they feel a personal connection with the tasks they undertake, and if they play a central role in constructing knowledge.  In school environments with these features, our students are more likely to read and learn productively.  In a constructivist environment, students will be confronted and will have to solve problems, such as working together with classmates to master solutions to acceleration problems, to negotiate the meaning of poems, or to figure out the basic mechanisms and principles that drive the stock market.  Such environments encourage meaningful dialogue, conceptual growth, and flexible understanding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7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You and your students will negotiate meanings in your classroom.  But much more than just the printed text will be read and meanings negotiated.  Your students also need to read and construct meanings for the tasks, the authority structure of the classroom, your intentions and expectations, and the sociocultural setting of your classroom.</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7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owever, whose meaning will be viewed as valid and correct in a classroom of 25 or 30 students and you?  Put in another way, whose standards will endorse the validity of a particular interpretation?  Will your interpretation alone dominate discourse?  Will your students have a say in what texts mean?  Will you suppress your personal beliefs about the meaning of texts while enabling students to express their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7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hile many interpretations by different readers and us should be brought into the learning environment, I believe that the work of both students and ourselves is to confirm that interpretations are well grounded in both the actual text and in our students’ unique responses to the text.  Interpretations should be reasonably supported with reference to events, statements, or claims made in the text.  As Rosenblatt his written, “Fundamentally, the process of understanding a work implies a recreation of it, an attempt to grasp completely the structured sensations and concepts through which the author seeks to convey the quality of his sense of life.  Each must make a new synthesis of these elements with his own nature, but it is essential that he evoke those components of experience to which the text actually refers”  (1938, p. 113).</a:t>
            </a:r>
            <a:endParaRPr b="0" i="1" lang="en-US" sz="2000" spc="-1" strike="noStrike">
              <a:solidFill>
                <a:srgbClr val="2d2525"/>
              </a:solidFill>
              <a:latin typeface="Times New Roman"/>
            </a:endParaRPr>
          </a:p>
        </p:txBody>
      </p:sp>
      <p:sp>
        <p:nvSpPr>
          <p:cNvPr id="577" name=""/>
          <p:cNvSpPr/>
          <p:nvPr/>
        </p:nvSpPr>
        <p:spPr>
          <a:xfrm>
            <a:off x="-92160" y="52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d2525"/>
              </a:solidFill>
              <a:latin typeface="Times New Roman"/>
            </a:endParaRPr>
          </a:p>
        </p:txBody>
      </p:sp>
      <p:sp>
        <p:nvSpPr>
          <p:cNvPr id="578" name=""/>
          <p:cNvSpPr/>
          <p:nvPr/>
        </p:nvSpPr>
        <p:spPr>
          <a:xfrm>
            <a:off x="304920" y="5451480"/>
            <a:ext cx="7391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ink about this for a moment:  What kinds of standards do we use when interpreting music?  </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8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Although classroom negotiation over the meanings of a text may not be its final authority, negotiation distributes many benefits.  You and your students share meanings in the classroom community so that, though dialogue, a community of readers comes to hold a range of possible meanings.  In [slide 131], the three overlapping circles represent the interactive nature of meaning negotiation.  Notice, however, that the interactive process, diagrammatically shown, overlaps a real text upon which the dialogue is founded.  The diagram demonstrates symbolically that the text itself is not the sole object carrying meaning but that meanings arise from transactions between individuals and the text.  During negotiation, your students bring meanings to the interaction, you bring your understandings, and all members of the class interact with the text and each other to clarify meaning.</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 digression</a:t>
            </a:r>
            <a:endParaRPr b="0" lang="en-US" sz="4400" spc="-1" strike="noStrike">
              <a:solidFill>
                <a:srgbClr val="061c62"/>
              </a:solidFill>
              <a:latin typeface="Times New Roman"/>
            </a:endParaRPr>
          </a:p>
        </p:txBody>
      </p:sp>
      <p:sp>
        <p:nvSpPr>
          <p:cNvPr id="58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Remember that texts differ in levels of ambiguity.  A text that reads, “J.S. Bach was born in 1685,” is unambiguous.  Poetry, on the other hand, can have multiple meanings—some clearly supported by the text and some that arise from the personal memories and experiences of the reader.  Through emphasizing the negotiation process, Unrau is trying to help teachers move away from telling students the meanings of more ambiguous texts.  The reason this is important is because when students are told how to interpret a poem and they are told that their personal interpretations have no merit, they become demotivated to read poetry and other ambiguous texts because many students have difficulty “guessing” the “real” meaning—the meanings that the critics have given.  Remember about negative affect—it is demotivating.  Students need to be able to read unambiguous texts correctly and they need to have some choices about ambiguous text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hermeneutic circle</a:t>
            </a:r>
            <a:endParaRPr b="0" lang="en-US" sz="4400" spc="-1" strike="noStrike">
              <a:solidFill>
                <a:srgbClr val="061c62"/>
              </a:solidFill>
              <a:latin typeface="Times New Roman"/>
            </a:endParaRPr>
          </a:p>
        </p:txBody>
      </p:sp>
      <p:sp>
        <p:nvSpPr>
          <p:cNvPr id="58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exts and their interpretations exist in what is called a hermeneutic circle.  In that circle, meanings we evoke as readers can perpetually re-emerge in modified or new forms.  As you and your students voice your views about a text’s meaning, a cycle of hypothesis and confirmation or disconfirmation spins.  Furthermore, while the meanings we construct for an entire text influence interpretations of its parts, our understanding of the parts shapes our interpretation of the entire text.  Why the ghost of Hamlet’s father haunts Hamlet becomes increasingly clear as scene after scene exposes treachery in Elsinore Castle.  But will we ever know if Hamlet was truly mad?  The cycle of interpretation is represented in [slide 131] by the circle with arrowheads surrounding the meaning negotiation process.  While reading and forming meanings, you and your students should keep in mind that interpretations are forever reinvented as dialogue, disagreement, and debate deem.  </a:t>
            </a:r>
            <a:endParaRPr b="0" i="1" lang="en-US" sz="2000" spc="-1" strike="noStrike">
              <a:solidFill>
                <a:srgbClr val="2d2525"/>
              </a:solidFill>
              <a:latin typeface="Times New Roman"/>
            </a:endParaRPr>
          </a:p>
        </p:txBody>
      </p:sp>
      <p:sp>
        <p:nvSpPr>
          <p:cNvPr id="585" name=""/>
          <p:cNvSpPr/>
          <p:nvPr/>
        </p:nvSpPr>
        <p:spPr>
          <a:xfrm>
            <a:off x="295560" y="0"/>
            <a:ext cx="626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Hermeneutics is the process of text interpretation.</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s:  They can read fast</a:t>
            </a:r>
            <a:endParaRPr b="0" lang="en-US" sz="4400" spc="-1" strike="noStrike">
              <a:solidFill>
                <a:srgbClr val="061c62"/>
              </a:solidFill>
              <a:latin typeface="Times New Roman"/>
            </a:endParaRPr>
          </a:p>
        </p:txBody>
      </p:sp>
      <p:sp>
        <p:nvSpPr>
          <p:cNvPr id="138" name="PlaceHolder 2"/>
          <p:cNvSpPr>
            <a:spLocks noGrp="1"/>
          </p:cNvSpPr>
          <p:nvPr>
            <p:ph/>
          </p:nvPr>
        </p:nvSpPr>
        <p:spPr>
          <a:xfrm>
            <a:off x="0" y="1523880"/>
            <a:ext cx="7772400" cy="4114800"/>
          </a:xfrm>
          <a:prstGeom prst="rect">
            <a:avLst/>
          </a:prstGeom>
          <a:noFill/>
          <a:ln w="0">
            <a:noFill/>
          </a:ln>
        </p:spPr>
        <p:txBody>
          <a:bodyPr lIns="90000" rIns="90000" tIns="46800" bIns="46800" anchor="t">
            <a:normAutofit fontScale="87000"/>
          </a:bodyPr>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Many speed reading courses proclaim that students can accelerate their reading rate and get more homework done more efficiently.  But have you ever tried to read a college or high school physics book at 1000 words a minute?  Or poetry?  </a:t>
            </a:r>
            <a:endParaRPr b="0" i="1" lang="en-US" sz="2000" spc="-1" strike="noStrike">
              <a:solidFill>
                <a:srgbClr val="2d2525"/>
              </a:solidFill>
              <a:latin typeface="Times New Roman"/>
            </a:endParaRPr>
          </a:p>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When we look more carefully at the rate of eye fixations as able readers read, we’ll see why average reading rates of 1000 words per minute and more are mythic.  Speed reading enables readers to cover more words per minute, but they pay a price:  comprehension drops.  </a:t>
            </a:r>
            <a:endParaRPr b="0" i="1" lang="en-US" sz="2000" spc="-1" strike="noStrike">
              <a:solidFill>
                <a:srgbClr val="2d2525"/>
              </a:solidFill>
              <a:latin typeface="Times New Roman"/>
            </a:endParaRPr>
          </a:p>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Obviously, we need to think of reading at different rates for different purposes.  Although studies have shown repeatedly that, if readers push faster than about 300 words a minute, they sacrifice comprehension, some texts require even a more plodding speed—with several rereadings!  Perhaps we could think about having various reading gears:  a skim gear, a pleasure reading gear, a newspaper gear, a cognitive challenge gear, and a low-speed frustration-management gear.  And, by the way, remember that some readers really enjoy savoring the sounds of words and phrases, the images words may evoke, and the pleasures of reflecting on an insight about life’s meanings or its ironic twist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hermeneutic circle</a:t>
            </a:r>
            <a:endParaRPr b="0" lang="en-US" sz="4400" spc="-1" strike="noStrike">
              <a:solidFill>
                <a:srgbClr val="061c62"/>
              </a:solidFill>
              <a:latin typeface="Times New Roman"/>
            </a:endParaRPr>
          </a:p>
        </p:txBody>
      </p:sp>
      <p:sp>
        <p:nvSpPr>
          <p:cNvPr id="58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notion of meanings subject to constant reinvention may be unsettling for some domains of knowledge, such as the physical sciences.  In fact, fresh meanings are more likely to spring from literature, poetry, or history than from scientific texts.  When reading biology or math texts, the emergence of multiple meanings is likely to be more restricted than it would be when reading history or literature.  In part, that condition arises from scientific or mathematical texts having a foundation in meanings that are widely agreed upon within the respective community.  In addition, science and math texts are less likely to contain ambiguities that contribute to alternative interpretations.  Nevertheless, the history of science tells us that even those meanings that are widely adopted and agreed upon in a scientific community like Newtonian physics, can be put under such pressure from new research and theory that scientists must renegotiate the old meanings of texts (Kuhn, 1962).</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52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Another digression</a:t>
            </a:r>
            <a:endParaRPr b="0" lang="en-US" sz="4000" spc="-1" strike="noStrike">
              <a:solidFill>
                <a:srgbClr val="061c62"/>
              </a:solidFill>
              <a:latin typeface="Times New Roman"/>
            </a:endParaRPr>
          </a:p>
        </p:txBody>
      </p:sp>
      <p:sp>
        <p:nvSpPr>
          <p:cNvPr id="589" name="PlaceHolder 2"/>
          <p:cNvSpPr>
            <a:spLocks noGrp="1"/>
          </p:cNvSpPr>
          <p:nvPr>
            <p:ph/>
          </p:nvPr>
        </p:nvSpPr>
        <p:spPr>
          <a:xfrm>
            <a:off x="0" y="762120"/>
            <a:ext cx="7772400" cy="533376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When Unrau cites Kuhn, he is referring to the idea of paradigm shifts.  A paradigm is a way of understanding the world.  For example, at the beginning of this slide show, I asked you to consider your paradigm of reading—how you understand the reading process.  My guess is that your paradigm will have changed significantly by the time you finish reading this slide show.  Paradigms are similar to schemata—they are the understandings we have of phenomena.  </a:t>
            </a:r>
            <a:endParaRPr b="0" i="1" lang="en-US" sz="1800" spc="-1" strike="noStrike">
              <a:solidFill>
                <a:srgbClr val="2d2525"/>
              </a:solidFill>
              <a:latin typeface="Times New Roman"/>
            </a:endParaRPr>
          </a:p>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The interesting thing about paradigms is that they can be very difficult to dislodge or change.  For example, when Galileo discovered that the sun was the center of our planetary system, the Church perceived that his new paradigm was a challenge of the Church’s paradigm, that God had made the Earth the center of everything.  Galileo’s new paradigm explained the observations that had been made with the newly invented telescope.  But in spite of  those unassailable observations, there were many who could not accept Galileo’s conclusions.  The result was that the Church excommunicated Galileo and only reinstated him 500 years later.  </a:t>
            </a:r>
            <a:endParaRPr b="0" i="1" lang="en-US" sz="1800" spc="-1" strike="noStrike">
              <a:solidFill>
                <a:srgbClr val="2d2525"/>
              </a:solidFill>
              <a:latin typeface="Times New Roman"/>
            </a:endParaRPr>
          </a:p>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When you are teaching, you will encounter various paradigms that people hold onto very strongly.  One example would be those who believe in evolution versus those who believe in creationism or intelligent design.  Aren’t you glad you teach music?</a:t>
            </a:r>
            <a:endParaRPr b="0" i="1" lang="en-US" sz="1800" spc="-1" strike="noStrike">
              <a:solidFill>
                <a:srgbClr val="2d2525"/>
              </a:solidFill>
              <a:latin typeface="Times New Roman"/>
            </a:endParaRPr>
          </a:p>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So, even in science, there can be multiple interpretations of texts—texts that seem unambiguous on the surface.  A student who believes in evolution will interpret a science textbook differently from one who believes in something else.  As teachers, we have to walk a fine line between teaching information that students need to know and respecting the beliefs that are the foundations of students’ understandings.  This is not an easy line to walk.</a:t>
            </a:r>
            <a:endParaRPr b="0" i="1"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Readers read different kinds of “texts.”</a:t>
            </a:r>
            <a:endParaRPr b="0" lang="en-US" sz="4000" spc="-1" strike="noStrike">
              <a:solidFill>
                <a:srgbClr val="061c62"/>
              </a:solidFill>
              <a:latin typeface="Times New Roman"/>
            </a:endParaRPr>
          </a:p>
        </p:txBody>
      </p:sp>
      <p:sp>
        <p:nvSpPr>
          <p:cNvPr id="5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e should keep in mind that all learners negotiate several different kinds of meaning:  text, task, sources of authority, and aspects of the sociocultural setting.  These we will examine separately to understand them more deeply.</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meanings</a:t>
            </a:r>
            <a:endParaRPr b="0" lang="en-US" sz="4400" spc="-1" strike="noStrike">
              <a:solidFill>
                <a:srgbClr val="061c62"/>
              </a:solidFill>
              <a:latin typeface="Times New Roman"/>
            </a:endParaRPr>
          </a:p>
        </p:txBody>
      </p:sp>
      <p:sp>
        <p:nvSpPr>
          <p:cNvPr id="593"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e know from our understanding of the reading process that different readers construct different meanings for texts because of variables like their knowledge base, processing skills, and emotional states.  Different readings may be more likely in some subjects, like English, than similar ones.  However, all teachers in all content areas should understand that legitimate divergent meanings may arise in any subject.  And, more importantly, we should have some clear ideas about how to cope with multiple interpretations of the same text.  Our classrooms can, for example, become forums for the articulation and negotiation of multiple meanings in the hermeneutic circle.  While shared meanings become part of the classroom’s understanding of a text, those meanings are never fixed forever.  They may be reinterpreted as the classroom’s conversation continue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ask meanings</a:t>
            </a:r>
            <a:endParaRPr b="0" lang="en-US" sz="4400" spc="-1" strike="noStrike">
              <a:solidFill>
                <a:srgbClr val="061c62"/>
              </a:solidFill>
              <a:latin typeface="Times New Roman"/>
            </a:endParaRPr>
          </a:p>
        </p:txBody>
      </p:sp>
      <p:sp>
        <p:nvSpPr>
          <p:cNvPr id="595" name="PlaceHolder 2"/>
          <p:cNvSpPr>
            <a:spLocks noGrp="1"/>
          </p:cNvSpPr>
          <p:nvPr>
            <p:ph/>
          </p:nvPr>
        </p:nvSpPr>
        <p:spPr>
          <a:xfrm>
            <a:off x="152280" y="137160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asks are structured activities that are related to the text and that are designed or selected by either us or our students.  Students who are capable and effective may interpret these tasks in different ways.  As teachers, we may think we have clearly described an activity or exercise we expect students to complete in a particular way.  But we are sometimes surprised, as I have often been, to discover that students have constructed divergent interpretations for the task that, upon inspection, I often see are quite feasable.</a:t>
            </a:r>
            <a:endParaRPr b="0" i="1" lang="en-US" sz="2400" spc="-1" strike="noStrike">
              <a:solidFill>
                <a:srgbClr val="2d2525"/>
              </a:solidFill>
              <a:latin typeface="Times New Roman"/>
            </a:endParaRPr>
          </a:p>
        </p:txBody>
      </p:sp>
      <p:sp>
        <p:nvSpPr>
          <p:cNvPr id="596" name=""/>
          <p:cNvSpPr/>
          <p:nvPr/>
        </p:nvSpPr>
        <p:spPr>
          <a:xfrm>
            <a:off x="0" y="502920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I, also, have had this experience.  It’s pretty amazing when I think I have communicated clearly what I want students to do, to find them doing something else!!!  It is helpful to give students examples of the critical features of what you want them to do.  </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ask meanings</a:t>
            </a:r>
            <a:endParaRPr b="0" lang="en-US" sz="4400" spc="-1" strike="noStrike">
              <a:solidFill>
                <a:srgbClr val="061c62"/>
              </a:solidFill>
              <a:latin typeface="Times New Roman"/>
            </a:endParaRPr>
          </a:p>
        </p:txBody>
      </p:sp>
      <p:sp>
        <p:nvSpPr>
          <p:cNvPr id="59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Linda Flower (1987) found that students interpreted assignments differently from each other and from the teachers she observed.  A teacher may clearly see in her own mind what she wants her students to do when she asks them to analyze their responses to a problem they had to solve, like figuring out the cause of the American Revolution.  She wants them to step back a little from their problem-solving processes and to reflect on them.  However, some students may not have been asked to engage in that form of self-reflection in the past and so find the assignment perplexing, even if fully explained and modeled.  Because they lack a clear schema for engaging in self-reflection on their problem-solving processes, students may come up with answers that reveal their representation of the assignment is different from other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ask meanings</a:t>
            </a:r>
            <a:endParaRPr b="0" lang="en-US" sz="4400" spc="-1" strike="noStrike">
              <a:solidFill>
                <a:srgbClr val="061c62"/>
              </a:solidFill>
              <a:latin typeface="Times New Roman"/>
            </a:endParaRPr>
          </a:p>
        </p:txBody>
      </p:sp>
      <p:sp>
        <p:nvSpPr>
          <p:cNvPr id="60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f some help in these teaching situations are opportunities for discussion about multiple interpretations our students may have in response to an assignment.  Such discussions may help our students to see how others in the class have understood the task and to hear us explain our expectations.  In any event, we and our students both need to monitor and assess our decisions about the meanings that have been assigned to task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 classrooms, we and our students inevitably arrive at an understanding of who is the authority.  That authority could reside in the text, our student readers, ourselves, or the classroom community.  It could also arise from the interactions among these potential sources of authority as we negotiate meaning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n “traditional” classrooms, students commonly identify the teacher as the source for authority.  When questions about the meaning or interpretation of a text arise during students’ learning or classroom discussions, the teacher’s understanding of the text is the meaning the students usually accept, perhaps as truth.  In these classrooms, students have interpreted the learning environment in such a way that the teacher is the source of authority.  Some students may question the “truths” that teachers transmit in those classrooms, but most students continue to perceive the teacher as the final arbiter of accuracy.  After all, who gives and grades the test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n some classrooms, the text may appear to have the ultimate position as authority.  When texts have such power, they are frequently consulted to determine their author’s possible intentions.  If the text holds this position as ultimate source for authority in the classroom, a reader’s interpretation could easily be invalidated because it fails to correspond with the teacher’s interpretation in the author’s meaning.  These invalidations of meaning may occur even though we know that readers construct unique meanings because of their personal background knowledg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s:  They don’t subvocalize</a:t>
            </a:r>
            <a:endParaRPr b="0" lang="en-US" sz="4400" spc="-1" strike="noStrike">
              <a:solidFill>
                <a:srgbClr val="061c62"/>
              </a:solidFill>
              <a:latin typeface="Times New Roman"/>
            </a:endParaRPr>
          </a:p>
        </p:txBody>
      </p:sp>
      <p:sp>
        <p:nvSpPr>
          <p:cNvPr id="140" name="PlaceHolder 2"/>
          <p:cNvSpPr>
            <a:spLocks noGrp="1"/>
          </p:cNvSpPr>
          <p:nvPr>
            <p:ph/>
          </p:nvPr>
        </p:nvSpPr>
        <p:spPr>
          <a:xfrm>
            <a:off x="228600" y="1600200"/>
            <a:ext cx="73915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ubvocalization occurs when you hear the words you read in your mind or when your lips or tongue muscles move as you read.  Some “experts” advise visual reading only without subvocalization of any kind.  However, subvocalization appears to be a very important part of learning to read, and the inner echo in our mind of words on the page may enable us ot improve our comprehension—especially of more difficult texts.  Suppressing subvocalization is also likely to suppress comprehensio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 the opposite extreme are those rather rare classrooms in which the only recognized source for the authority of meaning is the reader’s mind.  In these classes, rare though they are, only the reader’s personal interpretations of a text count.</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ach of us in our classrooms decide how much time and thought we want to give to negotiation over the source of authority for text meanings.  To a significant degree, the content area in which we teach will influence our decisions about appropriate sources of authority.  Some of us may find that the text speaks loudest; some may decide our understandings should have most significant authority; and some will continually negotiate the proper source of authority on different occasions.  Just as the meanings of a printed text need not be fixed forever in a specific meaning, the source of authority for a text’s meaning is always negotiable.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Authority and musical interpretation</a:t>
            </a:r>
            <a:endParaRPr b="0" lang="en-US" sz="4000" spc="-1" strike="noStrike">
              <a:solidFill>
                <a:srgbClr val="061c62"/>
              </a:solidFill>
              <a:latin typeface="Times New Roman"/>
            </a:endParaRPr>
          </a:p>
        </p:txBody>
      </p:sp>
      <p:sp>
        <p:nvSpPr>
          <p:cNvPr id="61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 related issue is how music gets interpreted in your music classroom.  Do you as conductor of the choir/ orchestra/ band make all the decisions?  Might there be a time and a place for students to make choices about musical interpretation?  Might there also be a time and a place for students NOT to make those decisions?  </a:t>
            </a:r>
            <a:endParaRPr b="0" i="1" lang="en-US" sz="1800" spc="-1" strike="noStrike">
              <a:solidFill>
                <a:srgbClr val="2d2525"/>
              </a:solidFill>
              <a:latin typeface="Times New Roman"/>
            </a:endParaRPr>
          </a:p>
          <a:p>
            <a:pPr marL="343080" indent="-34308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In my after-school fiddle group, I have been asking students to make some of these decisions for a long time.  It is one thing that allows them a sense of ownership over the group.  It also allows me to see some of their growth as musicians.  They negotiate with one another, for example, over the tempo of a piece or we will discuss interpretive possibilities and try them out.</a:t>
            </a:r>
            <a:endParaRPr b="0" i="1" lang="en-US" sz="1800" spc="-1" strike="noStrike">
              <a:solidFill>
                <a:srgbClr val="2d2525"/>
              </a:solidFill>
              <a:latin typeface="Times New Roman"/>
            </a:endParaRPr>
          </a:p>
          <a:p>
            <a:pPr marL="343080" indent="-34308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These are simply ideas for you to think about.  Your job is to think about all the possibilities for your music classroom.  Just because your teachers did things one way does not mean that you have to do things the same way.  At the same time, you also don’t have to get rid of the things that you know were successful.  </a:t>
            </a:r>
            <a:endParaRPr b="0" i="1"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ciocultural meanings</a:t>
            </a:r>
            <a:endParaRPr b="0" lang="en-US" sz="4400" spc="-1" strike="noStrike">
              <a:solidFill>
                <a:srgbClr val="061c62"/>
              </a:solidFill>
              <a:latin typeface="Times New Roman"/>
            </a:endParaRPr>
          </a:p>
        </p:txBody>
      </p:sp>
      <p:sp>
        <p:nvSpPr>
          <p:cNvPr id="614" name="PlaceHolder 2"/>
          <p:cNvSpPr>
            <a:spLocks noGrp="1"/>
          </p:cNvSpPr>
          <p:nvPr>
            <p:ph/>
          </p:nvPr>
        </p:nvSpPr>
        <p:spPr>
          <a:xfrm>
            <a:off x="228600" y="1066680"/>
            <a:ext cx="739152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ociocultural meanings are shaped by values and attitudes held in our classrooms, schools, and larger community within which we and our students live and learn.  While we and our students bring our own sociocultural values into the classroom, we also interpret the social life and culture we discover there.  In addition, we are likely to interpret aspects of the sociocultural life of the classroom in different ways.  For example, in the same classroom, some of our students may believe that their school is a rich ground of resources for learning at the same moment that other students perceive the school as a blackboard jungle of obstruction and frustration.  We also construct very different interpretations of our school’s sociocultural life.  Meanwhile, many of us and our students are likely to share sociocultural interpretation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Sociocultural meanings in the music classroom</a:t>
            </a:r>
            <a:endParaRPr b="0" lang="en-US" sz="4000" spc="-1" strike="noStrike">
              <a:solidFill>
                <a:srgbClr val="061c62"/>
              </a:solidFill>
              <a:latin typeface="Times New Roman"/>
            </a:endParaRPr>
          </a:p>
        </p:txBody>
      </p:sp>
      <p:sp>
        <p:nvSpPr>
          <p:cNvPr id="6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at are the differences in experiences for your first chair/best performers and your last chair/worst performers?  Here’s the stereotype:  In the back of the second violins, students slump or cross their legs as they play.  Those who struggle the most play the least.  They whisper to each other as the conductor gives instructions.  In contrast, the best players have one eye on the music and the conductor at all times, and they play with great posture.  They are clearly engaged.  It is important to pay attention to how different students experience the same classroom and to consider how the classroom experience can be made to be positive for everyon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Sociocultural meanings in the music classroom</a:t>
            </a:r>
            <a:endParaRPr b="0" lang="en-US" sz="4000" spc="-1" strike="noStrike">
              <a:solidFill>
                <a:srgbClr val="061c62"/>
              </a:solidFill>
              <a:latin typeface="Times New Roman"/>
            </a:endParaRPr>
          </a:p>
        </p:txBody>
      </p:sp>
      <p:sp>
        <p:nvSpPr>
          <p:cNvPr id="618" name="PlaceHolder 2"/>
          <p:cNvSpPr>
            <a:spLocks noGrp="1"/>
          </p:cNvSpPr>
          <p:nvPr>
            <p:ph/>
          </p:nvPr>
        </p:nvSpPr>
        <p:spPr>
          <a:xfrm>
            <a:off x="228600" y="1752480"/>
            <a:ext cx="739152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It was for these reasons that I tried out a new seating method when I was doing sectionals for a youth orchestra in Kentucky.  I had the last chair sit with the first chair, and so forth—a strong student with a weak student for the sessions that I ran.  The weaker students had stronger peer models (Vygotsky) during sectionals.  The peer models not only demonstrated stronger playing skills, but they also demonstrated how to pay attention to what the leader is saying or doing.  Peer models also benefit because they are clearly in a role of leadership.  I know that this kind of seating is controversial (parents of the stronger players can get upset if it appears that their children are seated in the back of a section, even if that is not the case) and I certainly understand not using it in concerts.  But it is a good way to rehearse periodically.</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ciocultural meanings</a:t>
            </a:r>
            <a:endParaRPr b="0" lang="en-US" sz="4400" spc="-1" strike="noStrike">
              <a:solidFill>
                <a:srgbClr val="061c62"/>
              </a:solidFill>
              <a:latin typeface="Times New Roman"/>
            </a:endParaRPr>
          </a:p>
        </p:txBody>
      </p:sp>
      <p:sp>
        <p:nvSpPr>
          <p:cNvPr id="6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o sum up, you and your students read many “texts” in classrooms.  The interpretations we construct of these texts often go unexamined.  However, if you are aware of the multiple interpretations that your students create, you have distinct advantages during meaning negotiation.  You can help your students discover each other’s meanings and explore the evidence that contributes to those meanings.  In so doing, you can help your students think through their interpretations and modify them in the light of reasoned discussion.  Engaging in the process of reflecting rationally on the meanings they have constructed for texts provides you with opportunities to exercise and develop their tools of critical thinking.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 for teaching</a:t>
            </a:r>
            <a:endParaRPr b="0" lang="en-US" sz="4400" spc="-1" strike="noStrike">
              <a:solidFill>
                <a:srgbClr val="061c62"/>
              </a:solidFill>
              <a:latin typeface="Times New Roman"/>
            </a:endParaRPr>
          </a:p>
        </p:txBody>
      </p:sp>
      <p:sp>
        <p:nvSpPr>
          <p:cNvPr id="6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Before launching upon this journey into a model of reading, I stated that one of the benefits of having a model could be the hints and clues it gives about intervention strategies that may help struggling readers improve at different points in the reading process.  What are these hints and clues to make us better teachers of literacy and content knowledg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228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24" name="PlaceHolder 2"/>
          <p:cNvSpPr>
            <a:spLocks noGrp="1"/>
          </p:cNvSpPr>
          <p:nvPr>
            <p:ph/>
          </p:nvPr>
        </p:nvSpPr>
        <p:spPr>
          <a:xfrm>
            <a:off x="228600" y="121932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Background knowledge stored in memory serves as an essential and valuable resource for all readers.  We can assess that background knowledge, discover methods to activate it, work with students to extend or expand it, and apply procedures to assess its growth.</a:t>
            </a:r>
            <a:endParaRPr b="0" i="1" lang="en-US" sz="3200" spc="-1" strike="noStrike">
              <a:solidFill>
                <a:srgbClr val="2d2525"/>
              </a:solidFill>
              <a:latin typeface="Times New Roman"/>
            </a:endParaRPr>
          </a:p>
        </p:txBody>
      </p:sp>
      <p:sp>
        <p:nvSpPr>
          <p:cNvPr id="625" name=""/>
          <p:cNvSpPr/>
          <p:nvPr/>
        </p:nvSpPr>
        <p:spPr>
          <a:xfrm>
            <a:off x="0" y="5334120"/>
            <a:ext cx="8016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How might background knowledge help students to be better performers?  How can we activate, assess, and expand our music students’ background knowledge?  Just a couple of things to consider…</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2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thout solid and automatic decoding skills, such as rapid processing of letter-sound correspondences and the application of effective word attack skills, readers will not have enough working memory to construct meaning for texts they struggle to read.  We should assess our students’ decoding skills to know if assigned texts are manageable.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only read key words</a:t>
            </a:r>
            <a:endParaRPr b="0" lang="en-US" sz="4400" spc="-1" strike="noStrike">
              <a:solidFill>
                <a:srgbClr val="061c62"/>
              </a:solidFill>
              <a:latin typeface="Times New Roman"/>
            </a:endParaRPr>
          </a:p>
        </p:txBody>
      </p:sp>
      <p:sp>
        <p:nvSpPr>
          <p:cNvPr id="1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Whimbey and Lochhead (1999) point out, how will we know in advance of reading a text what the key words are that we must make sure we read to comprehend a passage?  Trying to read only key words frequently results in readers’ misinterpreting the the text.  Marilyn Adams (1990) points out that readers probably process every word they come upon in a text to gain an understanding of a text’s meaning.  Skipping even one word, like a word that negates a statement, in the hunt for only the key words may result in a complete misreading of the text.  Good readers are frequently word-by-word reader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2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Knowledge of word meanings, including immediate access to the meanings of high-frequency words, is critical to the reader’s meaning construction process.  Building vocabulary knowledge removes obstacles to comprehens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ady knowledge of sentence patterns and structures contributes to more automatic processing when reading.  With speedy construction of propositions in the form of phrases and sentences, less working memory must be devoted to basic elements in the meaning making process, and more memory can be allocated to questioning, analyzing, comparing interpretations, and evaluating.</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aders should be trained and encouraged to monitor continuously the meaning construction process.  Readers can be taught to watch for breakdowns in comprehension and for inconsistencies in their internal text representa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rehension fostering strategies serve readers well.  The more effective strategies readers learn and use, the better the chances of high-quality comprehension.  Strategies to encourage monitoring and detection of confusion can be taught to students at all reading level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aders build mental text representation in both verbal and visual forms.  Readers can be encouraged to attend to both coding modes to enhance comprehens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n examination of the meaning negotiation process in classroom contexts yield several practical suggestions for growing interpretive, thoughtful classroom communiti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readers in their construction and exploration of meaning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Use teams to share and shape reader responses to text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and orchestrate more student-to-student interaction patterns rather than student-to-teacher pattern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esign team activities so that stores of knowledge and interpretations shared will be brought to the whole class for discuss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gage in whole-class conversations that build upon reader’s individual responses, explanations of their derivation, and comparisons between them.</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iscuss standards for the validity of interpretations to enable the interpretive community to acknowledge and understand its assumption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ultivate in readers an evolutionary perspective of texts (a hermeneutic perspective) rather than seeking final, absolute interpretations of text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rompt readers to explain or support their interpretations with reference to reasons, such as evidence from the text interpret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students through instruction and climate control to request from each other explanations for the grounds of text interpretation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recognize words as wholes</a:t>
            </a:r>
            <a:endParaRPr b="0" lang="en-US" sz="4400" spc="-1" strike="noStrike">
              <a:solidFill>
                <a:srgbClr val="061c62"/>
              </a:solidFill>
              <a:latin typeface="Times New Roman"/>
            </a:endParaRPr>
          </a:p>
        </p:txBody>
      </p:sp>
      <p:sp>
        <p:nvSpPr>
          <p:cNvPr id="1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ile good readers appear to recognize words as wholes, they also process virtually every letter of each word they read (Adams, 1994).  Undoubtedly, good readers recognize many words at a glance.  However, less frequently read words, words that may bear an enormous amount of importance for the meaning of a passage, are far more likely to be processed letter by letter (Ehri, 1991).</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ugh classroom activities and interactions, show the importance of dialogue in shaping meanings not only for the printed texts read in class, but also for tasks that are assigned, for sources of classroom authority, and for sociocultural features, such as students’ perceptions of their own role and function in classroom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5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a welcoming, open, inquisitive, questioning, and skeptical spirit with respect to the meaning formation process and the meanings formed.</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Your turn</a:t>
            </a:r>
            <a:endParaRPr b="0" lang="en-US" sz="4400" spc="-1" strike="noStrike">
              <a:solidFill>
                <a:srgbClr val="061c62"/>
              </a:solidFill>
              <a:latin typeface="Times New Roman"/>
            </a:endParaRPr>
          </a:p>
        </p:txBody>
      </p:sp>
      <p:sp>
        <p:nvSpPr>
          <p:cNvPr id="65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What was your model of reading like before you read this slide show?</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What has changed or not changed about your model of reading now that you have read this slide show?</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What are the implications of this model for your music classroom?</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read groups of words as a unit of thought</a:t>
            </a:r>
            <a:endParaRPr b="0" lang="en-US" sz="4400" spc="-1" strike="noStrike">
              <a:solidFill>
                <a:srgbClr val="061c62"/>
              </a:solidFill>
              <a:latin typeface="Times New Roman"/>
            </a:endParaRPr>
          </a:p>
        </p:txBody>
      </p:sp>
      <p:sp>
        <p:nvSpPr>
          <p:cNvPr id="146" name="PlaceHolder 2"/>
          <p:cNvSpPr>
            <a:spLocks noGrp="1"/>
          </p:cNvSpPr>
          <p:nvPr>
            <p:ph/>
          </p:nvPr>
        </p:nvSpPr>
        <p:spPr>
          <a:xfrm>
            <a:off x="-360" y="1981080"/>
            <a:ext cx="762012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We may form units of thought, what we call propositions, as we read.  However, trying to take in a group of three or four words in one fixation and transform it into a proposition or part of a gist is unlikely to work.  A cluster of words may not form a coherent or useful thought.  Texts are more complex in the arrangement of their units of meaning, especially as we begin to construct an internal text representation in our minds.  As mentioned above, Adams (1990)  found evidence that readers usually read each word, one at a time.  Nevertheless, some words may appear so frequently that we take them in as “sight words,” words like </a:t>
            </a:r>
            <a:r>
              <a:rPr b="0" i="1" lang="en-US" sz="2000" spc="-1" strike="noStrike" u="sng">
                <a:solidFill>
                  <a:srgbClr val="2d2525"/>
                </a:solidFill>
                <a:uFillTx/>
                <a:latin typeface="Times New Roman"/>
              </a:rPr>
              <a:t>the</a:t>
            </a:r>
            <a:r>
              <a:rPr b="0" i="1" lang="en-US" sz="2000" spc="-1" strike="noStrike">
                <a:solidFill>
                  <a:srgbClr val="2d2525"/>
                </a:solidFill>
                <a:latin typeface="Times New Roman"/>
              </a:rPr>
              <a:t> or </a:t>
            </a:r>
            <a:r>
              <a:rPr b="0" i="1" lang="en-US" sz="2000" spc="-1" strike="noStrike" u="sng">
                <a:solidFill>
                  <a:srgbClr val="2d2525"/>
                </a:solidFill>
                <a:uFillTx/>
                <a:latin typeface="Times New Roman"/>
              </a:rPr>
              <a:t>and</a:t>
            </a:r>
            <a:r>
              <a:rPr b="0" i="1" lang="en-US" sz="2000" spc="-1" strike="noStrike">
                <a:solidFill>
                  <a:srgbClr val="2d2525"/>
                </a:solidFill>
                <a:latin typeface="Times New Roman"/>
              </a:rPr>
              <a:t>, that could be tied to other less frequently sighted words in a text.  We might, on occasion, combine these words so rapidly that it appears as though we were taking in units of thought.  However, pushing a reader to read in word groups, as is often done with a device called a </a:t>
            </a:r>
            <a:r>
              <a:rPr b="0" i="1" lang="en-US" sz="2000" spc="-1" strike="noStrike" u="sng">
                <a:solidFill>
                  <a:srgbClr val="2d2525"/>
                </a:solidFill>
                <a:uFillTx/>
                <a:latin typeface="Times New Roman"/>
              </a:rPr>
              <a:t>tachistiscope</a:t>
            </a:r>
            <a:r>
              <a:rPr b="0" i="1" lang="en-US" sz="2000" spc="-1" strike="noStrike">
                <a:solidFill>
                  <a:srgbClr val="2d2525"/>
                </a:solidFill>
                <a:latin typeface="Times New Roman"/>
              </a:rPr>
              <a:t> that briefly flashes words or phrases on a screen, may increase the overall reading rate for certain kinds of texts but add nothing noteworthy to comprehension.</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 other words</a:t>
            </a:r>
            <a:endParaRPr b="0" lang="en-US" sz="4400" spc="-1" strike="noStrike">
              <a:solidFill>
                <a:srgbClr val="061c62"/>
              </a:solidFill>
              <a:latin typeface="Times New Roman"/>
            </a:endParaRPr>
          </a:p>
        </p:txBody>
      </p:sp>
      <p:sp>
        <p:nvSpPr>
          <p:cNvPr id="148" name=""/>
          <p:cNvSpPr/>
          <p:nvPr/>
        </p:nvSpPr>
        <p:spPr>
          <a:xfrm>
            <a:off x="212760" y="2479680"/>
            <a:ext cx="740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y get people to read faster?  They might get through the text more quickly, but they will not comprehend the text as well.  The critical reading skill is </a:t>
            </a:r>
            <a:r>
              <a:rPr b="0" lang="en-US" sz="2400" spc="-1" strike="noStrike" u="sng">
                <a:solidFill>
                  <a:srgbClr val="365d96"/>
                </a:solidFill>
                <a:uFillTx/>
                <a:latin typeface="Times New Roman"/>
              </a:rPr>
              <a:t>comprehension</a:t>
            </a:r>
            <a:r>
              <a:rPr b="0" lang="en-US" sz="2400" spc="-1" strike="noStrike">
                <a:solidFill>
                  <a:srgbClr val="365d96"/>
                </a:solidFill>
                <a:latin typeface="Times New Roman"/>
              </a:rPr>
              <a:t>, being able to understand what is being read.  After all, that is the point of reading.  </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efore you read…</a:t>
            </a:r>
            <a:endParaRPr b="0" lang="en-US" sz="4400" spc="-1" strike="noStrike">
              <a:solidFill>
                <a:srgbClr val="061c62"/>
              </a:solidFill>
              <a:latin typeface="Times New Roman"/>
            </a:endParaRPr>
          </a:p>
        </p:txBody>
      </p:sp>
      <p:sp>
        <p:nvSpPr>
          <p:cNvPr id="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Jot down your ideas about what the reading process is.  How do you think it works?  You could draw a picture of it or write it out in words.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Unrau’s ideas are in black italic type.  My comments are in blue non-italic type.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never look back</a:t>
            </a:r>
            <a:endParaRPr b="0" lang="en-US" sz="4400" spc="-1" strike="noStrike">
              <a:solidFill>
                <a:srgbClr val="061c62"/>
              </a:solidFill>
              <a:latin typeface="Times New Roman"/>
            </a:endParaRPr>
          </a:p>
        </p:txBody>
      </p:sp>
      <p:sp>
        <p:nvSpPr>
          <p:cNvPr id="15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peed reading experts may urge readers to push their eyes forward, to grasp groups of words as units of thought, to practice by increasing the speed at which a tachistiscope or computer program flashes words or groups of words from a text.  In forcing themselves to push forward, readers may miss important monitoring messages their minds are sending, messages like, “I don’t follow what’s going on here.  I need to reread this to understand.”  The reread strategy is one of the most basic solutions to the problem of misunderstanding or losing the thread of a text.  Remember that good readers summarize and ask themselves questions about their levels of understanding.  If good readers don’t understand a text, they have strategies like looking back to help them comprehend successfully.</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at are the benefits of a reading process model?</a:t>
            </a:r>
            <a:endParaRPr b="0" lang="en-US" sz="4400" spc="-1" strike="noStrike">
              <a:solidFill>
                <a:srgbClr val="061c62"/>
              </a:solidFill>
              <a:latin typeface="Times New Roman"/>
            </a:endParaRPr>
          </a:p>
        </p:txBody>
      </p:sp>
      <p:sp>
        <p:nvSpPr>
          <p:cNvPr id="15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ke most teachers, you probably have an implicit “model” of the reading process even though that model may not be explicitly described.  Nevertheless, your implicit understanding of reading may influence your instructional strategies in the classroom.  Understanding the reading process more fully and explicitly will contribute to deeper knowledge of your students’ learning and improvements in instructional practice for your students (Beck, 1989).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
          <p:cNvSpPr/>
          <p:nvPr/>
        </p:nvSpPr>
        <p:spPr>
          <a:xfrm>
            <a:off x="4800600" y="1295280"/>
            <a:ext cx="2895480" cy="2590920"/>
          </a:xfrm>
          <a:prstGeom prst="cloudCallout">
            <a:avLst>
              <a:gd name="adj1" fmla="val -50384"/>
              <a:gd name="adj2" fmla="val 1678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4" name=""/>
          <p:cNvSpPr/>
          <p:nvPr/>
        </p:nvSpPr>
        <p:spPr>
          <a:xfrm>
            <a:off x="5181480" y="4114800"/>
            <a:ext cx="2667240" cy="2514600"/>
          </a:xfrm>
          <a:prstGeom prst="cloudCallout">
            <a:avLst>
              <a:gd name="adj1" fmla="val -66250"/>
              <a:gd name="adj2" fmla="val -70643"/>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5" name=""/>
          <p:cNvSpPr/>
          <p:nvPr/>
        </p:nvSpPr>
        <p:spPr>
          <a:xfrm>
            <a:off x="2514600" y="4191120"/>
            <a:ext cx="2743200" cy="2666880"/>
          </a:xfrm>
          <a:prstGeom prst="cloudCallout">
            <a:avLst>
              <a:gd name="adj1" fmla="val -2601"/>
              <a:gd name="adj2" fmla="val -74462"/>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6" name=""/>
          <p:cNvSpPr/>
          <p:nvPr/>
        </p:nvSpPr>
        <p:spPr>
          <a:xfrm>
            <a:off x="0" y="3886200"/>
            <a:ext cx="2590920" cy="2743200"/>
          </a:xfrm>
          <a:prstGeom prst="cloudCallout">
            <a:avLst>
              <a:gd name="adj1" fmla="val 64462"/>
              <a:gd name="adj2" fmla="val -59898"/>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7" name=""/>
          <p:cNvSpPr/>
          <p:nvPr/>
        </p:nvSpPr>
        <p:spPr>
          <a:xfrm>
            <a:off x="0" y="1371600"/>
            <a:ext cx="2362320" cy="1981080"/>
          </a:xfrm>
          <a:prstGeom prst="cloudCallout">
            <a:avLst>
              <a:gd name="adj1" fmla="val 62162"/>
              <a:gd name="adj2" fmla="val 35175"/>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8" name=""/>
          <p:cNvSpPr/>
          <p:nvPr/>
        </p:nvSpPr>
        <p:spPr>
          <a:xfrm>
            <a:off x="2651040" y="2631960"/>
            <a:ext cx="2070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Benefits of a</a:t>
            </a:r>
            <a:endParaRPr b="0" lang="en-US" sz="2400" spc="-1" strike="noStrike">
              <a:solidFill>
                <a:srgbClr val="2d252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Reading Model</a:t>
            </a:r>
            <a:endParaRPr b="0" lang="en-US" sz="2400" spc="-1" strike="noStrike">
              <a:solidFill>
                <a:srgbClr val="2d2525"/>
              </a:solidFill>
              <a:latin typeface="Times New Roman"/>
            </a:endParaRPr>
          </a:p>
        </p:txBody>
      </p:sp>
      <p:sp>
        <p:nvSpPr>
          <p:cNvPr id="159" name=""/>
          <p:cNvSpPr/>
          <p:nvPr/>
        </p:nvSpPr>
        <p:spPr>
          <a:xfrm>
            <a:off x="212760" y="1641600"/>
            <a:ext cx="222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Makes theory graphic and easier to understand</a:t>
            </a:r>
            <a:endParaRPr b="0" lang="en-US" sz="2400" spc="-1" strike="noStrike">
              <a:solidFill>
                <a:srgbClr val="2d2525"/>
              </a:solidFill>
              <a:latin typeface="Times New Roman"/>
            </a:endParaRPr>
          </a:p>
        </p:txBody>
      </p:sp>
      <p:sp>
        <p:nvSpPr>
          <p:cNvPr id="160" name=""/>
          <p:cNvSpPr/>
          <p:nvPr/>
        </p:nvSpPr>
        <p:spPr>
          <a:xfrm>
            <a:off x="289080" y="4079880"/>
            <a:ext cx="1996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xplains how reading takes place in accord with current research</a:t>
            </a:r>
            <a:endParaRPr b="0" lang="en-US" sz="2400" spc="-1" strike="noStrike">
              <a:solidFill>
                <a:srgbClr val="2d2525"/>
              </a:solidFill>
              <a:latin typeface="Times New Roman"/>
            </a:endParaRPr>
          </a:p>
        </p:txBody>
      </p:sp>
      <p:sp>
        <p:nvSpPr>
          <p:cNvPr id="161" name=""/>
          <p:cNvSpPr/>
          <p:nvPr/>
        </p:nvSpPr>
        <p:spPr>
          <a:xfrm>
            <a:off x="2955960" y="4537080"/>
            <a:ext cx="2301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nables teachers to make predictions about the reading process</a:t>
            </a:r>
            <a:endParaRPr b="0" lang="en-US" sz="2400" spc="-1" strike="noStrike">
              <a:solidFill>
                <a:srgbClr val="2d2525"/>
              </a:solidFill>
              <a:latin typeface="Times New Roman"/>
            </a:endParaRPr>
          </a:p>
        </p:txBody>
      </p:sp>
      <p:sp>
        <p:nvSpPr>
          <p:cNvPr id="162" name=""/>
          <p:cNvSpPr/>
          <p:nvPr/>
        </p:nvSpPr>
        <p:spPr>
          <a:xfrm>
            <a:off x="5410080" y="4495680"/>
            <a:ext cx="2530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Helps teachers detect breakdown points in comprehension</a:t>
            </a:r>
            <a:endParaRPr b="0" lang="en-US" sz="2400" spc="-1" strike="noStrike">
              <a:solidFill>
                <a:srgbClr val="2d2525"/>
              </a:solidFill>
              <a:latin typeface="Times New Roman"/>
            </a:endParaRPr>
          </a:p>
        </p:txBody>
      </p:sp>
      <p:sp>
        <p:nvSpPr>
          <p:cNvPr id="163" name=""/>
          <p:cNvSpPr/>
          <p:nvPr/>
        </p:nvSpPr>
        <p:spPr>
          <a:xfrm>
            <a:off x="5241960" y="1565280"/>
            <a:ext cx="245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Provides clues about strategies to improve reading fluency and comprehension</a:t>
            </a:r>
            <a:endParaRPr b="0" lang="en-US" sz="2400" spc="-1" strike="noStrike">
              <a:solidFill>
                <a:srgbClr val="2d2525"/>
              </a:solidFill>
              <a:latin typeface="Times New Roman"/>
            </a:endParaRPr>
          </a:p>
        </p:txBody>
      </p:sp>
      <p:pic>
        <p:nvPicPr>
          <p:cNvPr id="164" name="" descr=""/>
          <p:cNvPicPr/>
          <p:nvPr/>
        </p:nvPicPr>
        <p:blipFill>
          <a:blip r:embed="rId1"/>
          <a:stretch/>
        </p:blipFill>
        <p:spPr>
          <a:xfrm>
            <a:off x="2895480" y="533520"/>
            <a:ext cx="1778040" cy="177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grates research findings</a:t>
            </a:r>
            <a:endParaRPr b="0" lang="en-US" sz="4400" spc="-1" strike="noStrike">
              <a:solidFill>
                <a:srgbClr val="061c62"/>
              </a:solidFill>
              <a:latin typeface="Times New Roman"/>
            </a:endParaRPr>
          </a:p>
        </p:txBody>
      </p:sp>
      <p:sp>
        <p:nvSpPr>
          <p:cNvPr id="166" name="PlaceHolder 2"/>
          <p:cNvSpPr>
            <a:spLocks noGrp="1"/>
          </p:cNvSpPr>
          <p:nvPr>
            <p:ph/>
          </p:nvPr>
        </p:nvSpPr>
        <p:spPr>
          <a:xfrm>
            <a:off x="-360" y="1676520"/>
            <a:ext cx="76201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rst, a model integrates research findings, makes theory graphic, and provides us with an explanation of how reading takes place in accord with what we currently know (Tierney, 1994).  Taking a car’s engine apart helps us to see how it works and how to repair it.  But dismantling the reading process presents us with a very different problem.  Reading is a highly complex and hidden process with no pistons, valves, or crankshafts to pull out for observation.  However, we do have a substantial amount of research and theoretical knowledge about reading.  Millions learn how to read even though we may not know all the details about how reading happens.  What we do know from research and theory enables to construct a model to visualize this mysterious, invisible, and very complex process.  Having a model will reduce some of the mystery surrounding reading, and you could then explain the process to others so that they might understand more about a very important skill that is very hard to see.  We might view the model as a metaphor or analogy that helps us visualize and understand research and theories that explain aspects of the reading process.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nables predictions</a:t>
            </a:r>
            <a:endParaRPr b="0" lang="en-US" sz="4400" spc="-1" strike="noStrike">
              <a:solidFill>
                <a:srgbClr val="061c62"/>
              </a:solidFill>
              <a:latin typeface="Times New Roman"/>
            </a:endParaRPr>
          </a:p>
        </p:txBody>
      </p:sp>
      <p:sp>
        <p:nvSpPr>
          <p:cNvPr id="16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knowing something about how the reading process works and having a model to render that knowledge enables us to make predictions about the reading process.  For example, the model can help you to understand how the activities of good readers contribute to their high levels of comprehens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tect breakdowns</a:t>
            </a:r>
            <a:endParaRPr b="0" lang="en-US" sz="4400" spc="-1" strike="noStrike">
              <a:solidFill>
                <a:srgbClr val="061c62"/>
              </a:solidFill>
              <a:latin typeface="Times New Roman"/>
            </a:endParaRPr>
          </a:p>
        </p:txBody>
      </p:sp>
      <p:sp>
        <p:nvSpPr>
          <p:cNvPr id="17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ird, a model of reading will help you detect where points of breakdown in comprehension can occur.  Glitches happen.  Perplexities arise.  Things don’t make sense.  A model can help you visualize what components are vulnerable or fail to contribute to smooth meaning made while reading.  In short, a model will help you understand what’s going on when diagnosing a student’s struggle with reading.</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vention</a:t>
            </a:r>
            <a:endParaRPr b="0" lang="en-US" sz="4400" spc="-1" strike="noStrike">
              <a:solidFill>
                <a:srgbClr val="061c62"/>
              </a:solidFill>
              <a:latin typeface="Times New Roman"/>
            </a:endParaRPr>
          </a:p>
        </p:txBody>
      </p:sp>
      <p:sp>
        <p:nvSpPr>
          <p:cNvPr id="17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astly, a model will give you clues about intervention strategies that may help struggling readers at different points in the reading process.  While viewing the model as a sure resource for formulating prescriptions that we can administer to the ailing reader may be dangerous, we can use it as a resource for good hints.  There may be no clear, direct path from the model to classroom curriculum or tutoring strategies, but a model creates more opportunity for instructional intervention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verview of Reading Model</a:t>
            </a:r>
            <a:endParaRPr b="0" lang="en-US" sz="4400" spc="-1" strike="noStrike">
              <a:solidFill>
                <a:srgbClr val="061c62"/>
              </a:solidFill>
              <a:latin typeface="Times New Roman"/>
            </a:endParaRPr>
          </a:p>
        </p:txBody>
      </p:sp>
      <p:sp>
        <p:nvSpPr>
          <p:cNvPr id="17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e model consists of four major components:</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r </a:t>
            </a:r>
            <a:r>
              <a:rPr b="0" i="1" lang="en-US" sz="2400" spc="-1" strike="noStrike" u="sng">
                <a:solidFill>
                  <a:srgbClr val="2d2525"/>
                </a:solidFill>
                <a:uFillTx/>
                <a:latin typeface="Times New Roman"/>
              </a:rPr>
              <a:t>sensory system</a:t>
            </a:r>
            <a:r>
              <a:rPr b="0" i="1" lang="en-US" sz="2400" spc="-1" strike="noStrike">
                <a:solidFill>
                  <a:srgbClr val="2d2525"/>
                </a:solidFill>
                <a:latin typeface="Times New Roman"/>
              </a:rPr>
              <a:t> that is stimulated by an external text we see or hear,</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r </a:t>
            </a:r>
            <a:r>
              <a:rPr b="0" i="1" lang="en-US" sz="2400" spc="-1" strike="noStrike" u="sng">
                <a:solidFill>
                  <a:srgbClr val="2d2525"/>
                </a:solidFill>
                <a:uFillTx/>
                <a:latin typeface="Times New Roman"/>
              </a:rPr>
              <a:t>cognitive processes</a:t>
            </a:r>
            <a:r>
              <a:rPr b="0" i="1" lang="en-US" sz="2400" spc="-1" strike="noStrike">
                <a:solidFill>
                  <a:srgbClr val="2d2525"/>
                </a:solidFill>
                <a:latin typeface="Times New Roman"/>
              </a:rPr>
              <a:t> that include orthographic and phonological processing, word recognition, long-term and working memory, construction of phrase and sentence sense, text building, and an internal text representation,</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r </a:t>
            </a:r>
            <a:r>
              <a:rPr b="0" i="1" lang="en-US" sz="2400" spc="-1" strike="noStrike" u="sng">
                <a:solidFill>
                  <a:srgbClr val="2d2525"/>
                </a:solidFill>
                <a:uFillTx/>
                <a:latin typeface="Times New Roman"/>
              </a:rPr>
              <a:t>metacognitive processes</a:t>
            </a:r>
            <a:r>
              <a:rPr b="0" i="1" lang="en-US" sz="2400" spc="-1" strike="noStrike">
                <a:solidFill>
                  <a:srgbClr val="2d2525"/>
                </a:solidFill>
                <a:latin typeface="Times New Roman"/>
              </a:rPr>
              <a:t> that include both monitoring and control of our cognitive processes, and</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 </a:t>
            </a:r>
            <a:r>
              <a:rPr b="0" i="1" lang="en-US" sz="2400" spc="-1" strike="noStrike" u="sng">
                <a:solidFill>
                  <a:srgbClr val="2d2525"/>
                </a:solidFill>
                <a:uFillTx/>
                <a:latin typeface="Times New Roman"/>
              </a:rPr>
              <a:t>text and classroom context</a:t>
            </a:r>
            <a:r>
              <a:rPr b="0" i="1" lang="en-US" sz="2400" spc="-1" strike="noStrike">
                <a:solidFill>
                  <a:srgbClr val="2d2525"/>
                </a:solidFill>
                <a:latin typeface="Times New Roman"/>
              </a:rPr>
              <a:t> in which we read, comprehend, discuss, analyze, and evaluate texts.</a:t>
            </a:r>
            <a:endParaRPr b="0" i="1" lang="en-US" sz="2400" spc="-1" strike="noStrike">
              <a:solidFill>
                <a:srgbClr val="2d2525"/>
              </a:solidFill>
              <a:latin typeface="Times New Roman"/>
            </a:endParaRPr>
          </a:p>
        </p:txBody>
      </p:sp>
      <p:sp>
        <p:nvSpPr>
          <p:cNvPr id="175" name=""/>
          <p:cNvSpPr/>
          <p:nvPr/>
        </p:nvSpPr>
        <p:spPr>
          <a:xfrm>
            <a:off x="136440" y="41400"/>
            <a:ext cx="7788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As you read about the reading model, think about how you read music and how this model might apply to that task.</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6" name=""/>
          <p:cNvSpPr/>
          <p:nvPr/>
        </p:nvSpPr>
        <p:spPr>
          <a:xfrm>
            <a:off x="1600200" y="0"/>
            <a:ext cx="1295280" cy="6094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7" name=""/>
          <p:cNvSpPr/>
          <p:nvPr/>
        </p:nvSpPr>
        <p:spPr>
          <a:xfrm>
            <a:off x="1371600" y="1676520"/>
            <a:ext cx="2438280" cy="2057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8" name=""/>
          <p:cNvSpPr/>
          <p:nvPr/>
        </p:nvSpPr>
        <p:spPr>
          <a:xfrm>
            <a:off x="1676520" y="1371600"/>
            <a:ext cx="1295280" cy="3049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9" name=""/>
          <p:cNvSpPr/>
          <p:nvPr/>
        </p:nvSpPr>
        <p:spPr>
          <a:xfrm>
            <a:off x="1752480" y="3733920"/>
            <a:ext cx="1219320" cy="4572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0" name=""/>
          <p:cNvSpPr/>
          <p:nvPr/>
        </p:nvSpPr>
        <p:spPr>
          <a:xfrm>
            <a:off x="0" y="1905120"/>
            <a:ext cx="1143000" cy="15238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1" name=""/>
          <p:cNvSpPr/>
          <p:nvPr/>
        </p:nvSpPr>
        <p:spPr>
          <a:xfrm>
            <a:off x="4267080" y="1219320"/>
            <a:ext cx="914400" cy="914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2" name=""/>
          <p:cNvSpPr/>
          <p:nvPr/>
        </p:nvSpPr>
        <p:spPr>
          <a:xfrm>
            <a:off x="4267080" y="2743200"/>
            <a:ext cx="914400" cy="914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3" name=""/>
          <p:cNvSpPr/>
          <p:nvPr/>
        </p:nvSpPr>
        <p:spPr>
          <a:xfrm>
            <a:off x="5562720" y="762120"/>
            <a:ext cx="3352680" cy="35812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4" name=""/>
          <p:cNvSpPr/>
          <p:nvPr/>
        </p:nvSpPr>
        <p:spPr>
          <a:xfrm>
            <a:off x="6324480" y="1600200"/>
            <a:ext cx="1981440" cy="1981080"/>
          </a:xfrm>
          <a:prstGeom prst="ellipse">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5" name=""/>
          <p:cNvSpPr/>
          <p:nvPr/>
        </p:nvSpPr>
        <p:spPr>
          <a:xfrm>
            <a:off x="1674720" y="15228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External Text</a:t>
            </a:r>
            <a:endParaRPr b="0" lang="en-US" sz="1400" spc="-1" strike="noStrike">
              <a:solidFill>
                <a:srgbClr val="2d2525"/>
              </a:solidFill>
              <a:latin typeface="Times New Roman"/>
            </a:endParaRPr>
          </a:p>
        </p:txBody>
      </p:sp>
      <p:sp>
        <p:nvSpPr>
          <p:cNvPr id="186" name=""/>
          <p:cNvSpPr/>
          <p:nvPr/>
        </p:nvSpPr>
        <p:spPr>
          <a:xfrm>
            <a:off x="1674360" y="1371600"/>
            <a:ext cx="132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ensory System</a:t>
            </a:r>
            <a:endParaRPr b="0" lang="en-US" sz="1400" spc="-1" strike="noStrike">
              <a:solidFill>
                <a:srgbClr val="2d2525"/>
              </a:solidFill>
              <a:latin typeface="Times New Roman"/>
            </a:endParaRPr>
          </a:p>
        </p:txBody>
      </p:sp>
      <p:sp>
        <p:nvSpPr>
          <p:cNvPr id="187" name=""/>
          <p:cNvSpPr/>
          <p:nvPr/>
        </p:nvSpPr>
        <p:spPr>
          <a:xfrm>
            <a:off x="1750680" y="3733920"/>
            <a:ext cx="1256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Internal Text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Representation</a:t>
            </a:r>
            <a:endParaRPr b="0" lang="en-US" sz="1400" spc="-1" strike="noStrike">
              <a:solidFill>
                <a:srgbClr val="2d2525"/>
              </a:solidFill>
              <a:latin typeface="Times New Roman"/>
            </a:endParaRPr>
          </a:p>
        </p:txBody>
      </p:sp>
      <p:sp>
        <p:nvSpPr>
          <p:cNvPr id="188" name=""/>
          <p:cNvSpPr/>
          <p:nvPr/>
        </p:nvSpPr>
        <p:spPr>
          <a:xfrm>
            <a:off x="1371600" y="1752480"/>
            <a:ext cx="25146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gnitive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es:</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Orthographic &amp; Phonological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 </a:t>
            </a:r>
            <a:r>
              <a:rPr b="0" lang="en-US" sz="1400" spc="-1" strike="noStrike">
                <a:solidFill>
                  <a:srgbClr val="2d2525"/>
                </a:solidFill>
                <a:latin typeface="Times New Roman"/>
              </a:rPr>
              <a:t>processing,</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recognition,</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struction of phrase and sentence sense,</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building, and</a:t>
            </a:r>
            <a:endParaRPr b="0" lang="en-US" sz="1400" spc="-1" strike="noStrike">
              <a:solidFill>
                <a:srgbClr val="2d2525"/>
              </a:solidFill>
              <a:latin typeface="Times New Roman"/>
            </a:endParaRPr>
          </a:p>
        </p:txBody>
      </p:sp>
      <p:sp>
        <p:nvSpPr>
          <p:cNvPr id="189" name=""/>
          <p:cNvSpPr/>
          <p:nvPr/>
        </p:nvSpPr>
        <p:spPr>
          <a:xfrm>
            <a:off x="2819520" y="3581280"/>
            <a:ext cx="0" cy="3812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0" name=""/>
          <p:cNvSpPr/>
          <p:nvPr/>
        </p:nvSpPr>
        <p:spPr>
          <a:xfrm>
            <a:off x="-1800" y="2286000"/>
            <a:ext cx="12610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es:</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onitoring &amp;</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rol</a:t>
            </a:r>
            <a:endParaRPr b="0" lang="en-US" sz="1400" spc="-1" strike="noStrike">
              <a:solidFill>
                <a:srgbClr val="2d2525"/>
              </a:solidFill>
              <a:latin typeface="Times New Roman"/>
            </a:endParaRPr>
          </a:p>
        </p:txBody>
      </p:sp>
      <p:sp>
        <p:nvSpPr>
          <p:cNvPr id="191" name=""/>
          <p:cNvSpPr/>
          <p:nvPr/>
        </p:nvSpPr>
        <p:spPr>
          <a:xfrm>
            <a:off x="4266360" y="1447920"/>
            <a:ext cx="1003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ong-Term</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mory</a:t>
            </a:r>
            <a:endParaRPr b="0" lang="en-US" sz="1400" spc="-1" strike="noStrike">
              <a:solidFill>
                <a:srgbClr val="2d2525"/>
              </a:solidFill>
              <a:latin typeface="Times New Roman"/>
            </a:endParaRPr>
          </a:p>
        </p:txBody>
      </p:sp>
      <p:sp>
        <p:nvSpPr>
          <p:cNvPr id="192" name=""/>
          <p:cNvSpPr/>
          <p:nvPr/>
        </p:nvSpPr>
        <p:spPr>
          <a:xfrm>
            <a:off x="4266360" y="297180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king</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mory</a:t>
            </a:r>
            <a:endParaRPr b="0" lang="en-US" sz="1400" spc="-1" strike="noStrike">
              <a:solidFill>
                <a:srgbClr val="2d2525"/>
              </a:solidFill>
              <a:latin typeface="Times New Roman"/>
            </a:endParaRPr>
          </a:p>
        </p:txBody>
      </p:sp>
      <p:sp>
        <p:nvSpPr>
          <p:cNvPr id="193" name=""/>
          <p:cNvSpPr/>
          <p:nvPr/>
        </p:nvSpPr>
        <p:spPr>
          <a:xfrm>
            <a:off x="6243840" y="838080"/>
            <a:ext cx="223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and Classroom Context</a:t>
            </a:r>
            <a:endParaRPr b="0" lang="en-US" sz="1400" spc="-1" strike="noStrike">
              <a:solidFill>
                <a:srgbClr val="2d2525"/>
              </a:solidFill>
              <a:latin typeface="Times New Roman"/>
            </a:endParaRPr>
          </a:p>
        </p:txBody>
      </p:sp>
      <p:sp>
        <p:nvSpPr>
          <p:cNvPr id="194" name=""/>
          <p:cNvSpPr/>
          <p:nvPr/>
        </p:nvSpPr>
        <p:spPr>
          <a:xfrm>
            <a:off x="6628320" y="1981080"/>
            <a:ext cx="133884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aning</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Negotiation</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Task, &amp;</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Other Meanings</a:t>
            </a:r>
            <a:endParaRPr b="0" lang="en-US" sz="1400" spc="-1" strike="noStrike">
              <a:solidFill>
                <a:srgbClr val="2d2525"/>
              </a:solidFill>
              <a:latin typeface="Times New Roman"/>
            </a:endParaRPr>
          </a:p>
        </p:txBody>
      </p:sp>
      <p:sp>
        <p:nvSpPr>
          <p:cNvPr id="195" name=""/>
          <p:cNvSpPr/>
          <p:nvPr/>
        </p:nvSpPr>
        <p:spPr>
          <a:xfrm>
            <a:off x="6091560" y="3733920"/>
            <a:ext cx="244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anings for Student, Teacher,</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amp; Classroom Community</a:t>
            </a:r>
            <a:endParaRPr b="0" lang="en-US" sz="1400" spc="-1" strike="noStrike">
              <a:solidFill>
                <a:srgbClr val="2d2525"/>
              </a:solidFill>
              <a:latin typeface="Times New Roman"/>
            </a:endParaRPr>
          </a:p>
        </p:txBody>
      </p:sp>
      <p:sp>
        <p:nvSpPr>
          <p:cNvPr id="196" name=""/>
          <p:cNvSpPr/>
          <p:nvPr/>
        </p:nvSpPr>
        <p:spPr>
          <a:xfrm>
            <a:off x="2209680" y="609480"/>
            <a:ext cx="0" cy="76212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7" name=""/>
          <p:cNvSpPr/>
          <p:nvPr/>
        </p:nvSpPr>
        <p:spPr>
          <a:xfrm flipH="1">
            <a:off x="1142640" y="1752480"/>
            <a:ext cx="228600" cy="30492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8" name=""/>
          <p:cNvSpPr/>
          <p:nvPr/>
        </p:nvSpPr>
        <p:spPr>
          <a:xfrm>
            <a:off x="1143000" y="3276720"/>
            <a:ext cx="22860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9" name=""/>
          <p:cNvSpPr/>
          <p:nvPr/>
        </p:nvSpPr>
        <p:spPr>
          <a:xfrm>
            <a:off x="3809880" y="3200400"/>
            <a:ext cx="38124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0" name=""/>
          <p:cNvSpPr/>
          <p:nvPr/>
        </p:nvSpPr>
        <p:spPr>
          <a:xfrm>
            <a:off x="4648320" y="2209680"/>
            <a:ext cx="0" cy="45720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1" name=""/>
          <p:cNvSpPr/>
          <p:nvPr/>
        </p:nvSpPr>
        <p:spPr>
          <a:xfrm>
            <a:off x="2971800" y="457200"/>
            <a:ext cx="2514600" cy="533520"/>
          </a:xfrm>
          <a:prstGeom prst="line">
            <a:avLst/>
          </a:prstGeom>
          <a:ln w="9360">
            <a:solidFill>
              <a:srgbClr val="2d2525"/>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2" name=""/>
          <p:cNvSpPr/>
          <p:nvPr/>
        </p:nvSpPr>
        <p:spPr>
          <a:xfrm>
            <a:off x="2971800" y="4038480"/>
            <a:ext cx="2514600" cy="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3" name=""/>
          <p:cNvSpPr/>
          <p:nvPr/>
        </p:nvSpPr>
        <p:spPr>
          <a:xfrm>
            <a:off x="228600" y="5181480"/>
            <a:ext cx="786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is diagram will be explained in detail.  Take a moment, however, to think about it in relation to both reading and music.</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Sensory System</a:t>
            </a:r>
            <a:endParaRPr b="0" lang="en-US" sz="4400" spc="-1" strike="noStrike">
              <a:solidFill>
                <a:srgbClr val="061c62"/>
              </a:solidFill>
              <a:latin typeface="Times New Roman"/>
            </a:endParaRPr>
          </a:p>
        </p:txBody>
      </p:sp>
      <p:sp>
        <p:nvSpPr>
          <p:cNvPr id="20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or the purposes of reading, we use two primary modes of sensation:  visual and auditory.  Visually, we perceive images of letters and words from the external text assumed to be in a classroom context.  Text can be printed on a page or electronically transmitted.  These visual images initiate the processing of letters and words as symbols, also called orthographic processing.  When a reader reads aloud, we hear sounds as speech symbols that we process as syllables, phonemes, and words, also called phonological processing.</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93" name="PlaceHolder 2"/>
          <p:cNvSpPr>
            <a:spLocks noGrp="1"/>
          </p:cNvSpPr>
          <p:nvPr>
            <p:ph/>
          </p:nvPr>
        </p:nvSpPr>
        <p:spPr>
          <a:xfrm>
            <a:off x="380520" y="1980720"/>
            <a:ext cx="7239240" cy="30481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activate and connect with the knowledge base related to the subject of the reading.  This mental activity is connected with schema theory and the function of long term memory.  </a:t>
            </a:r>
            <a:endParaRPr b="0" i="1" lang="en-US" sz="3200" spc="-1" strike="noStrike">
              <a:solidFill>
                <a:srgbClr val="2d2525"/>
              </a:solidFill>
              <a:latin typeface="Times New Roman"/>
            </a:endParaRPr>
          </a:p>
        </p:txBody>
      </p:sp>
      <p:sp>
        <p:nvSpPr>
          <p:cNvPr id="94" name=""/>
          <p:cNvSpPr/>
          <p:nvPr/>
        </p:nvSpPr>
        <p:spPr>
          <a:xfrm>
            <a:off x="228600" y="4724280"/>
            <a:ext cx="7559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In other words, reading is not just about decoding words (as you will see when we cover comprehension.  The very first thing Unrau says here is well beyond the issue of being able to “sound out” words.  Schema theory will be explained in this slide show.</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The Sensory System</a:t>
            </a:r>
            <a:endParaRPr b="0" lang="en-US" sz="3600" spc="-1" strike="noStrike">
              <a:solidFill>
                <a:srgbClr val="061c62"/>
              </a:solidFill>
              <a:latin typeface="Times New Roman"/>
            </a:endParaRPr>
          </a:p>
        </p:txBody>
      </p:sp>
      <p:sp>
        <p:nvSpPr>
          <p:cNvPr id="207" name="PlaceHolder 2"/>
          <p:cNvSpPr>
            <a:spLocks noGrp="1"/>
          </p:cNvSpPr>
          <p:nvPr>
            <p:ph/>
          </p:nvPr>
        </p:nvSpPr>
        <p:spPr>
          <a:xfrm>
            <a:off x="228600" y="160020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oth print and sounds that communicate language are symbolic systems that we learn to decode.  That decoding process begins with either orthographic processing when print stimulates receptors in our eyes or phonological processing when the sound of words stimulates receptors in our ears.  However, these two processing systems, the orthographic and the phonological, frequently interact when readers read.</a:t>
            </a:r>
            <a:endParaRPr b="0" i="1" lang="en-US" sz="2800" spc="-1" strike="noStrike">
              <a:solidFill>
                <a:srgbClr val="2d2525"/>
              </a:solidFill>
              <a:latin typeface="Times New Roman"/>
            </a:endParaRPr>
          </a:p>
        </p:txBody>
      </p:sp>
      <p:sp>
        <p:nvSpPr>
          <p:cNvPr id="208" name=""/>
          <p:cNvSpPr/>
          <p:nvPr/>
        </p:nvSpPr>
        <p:spPr>
          <a:xfrm>
            <a:off x="0" y="56674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65d96"/>
                </a:solidFill>
                <a:uFillTx/>
                <a:latin typeface="Times New Roman"/>
              </a:rPr>
              <a:t>The Color Purple</a:t>
            </a:r>
            <a:r>
              <a:rPr b="0" lang="en-US" sz="1800" spc="-1" strike="noStrike">
                <a:solidFill>
                  <a:srgbClr val="365d96"/>
                </a:solidFill>
                <a:latin typeface="Times New Roman"/>
              </a:rPr>
              <a:t> by Alice Walker is an example of a book that encourages the interaction of both orthographic and phonological processing because it is written in dialect.  In order to enjoy the language of the book, you need to think about how the words sound—to read them out loud or hear them in your head.</a:t>
            </a:r>
            <a:endParaRPr b="0" lang="en-US" sz="1800" spc="-1" strike="noStrike">
              <a:solidFill>
                <a:srgbClr val="2d2525"/>
              </a:solidFill>
              <a:latin typeface="Times New Roman"/>
            </a:endParaRPr>
          </a:p>
        </p:txBody>
      </p:sp>
      <p:sp>
        <p:nvSpPr>
          <p:cNvPr id="209" name=""/>
          <p:cNvSpPr/>
          <p:nvPr/>
        </p:nvSpPr>
        <p:spPr>
          <a:xfrm>
            <a:off x="-92160" y="-3816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iagnostics:  Is the student’s vision sufficiently acute for reading without eyestrain?  If vision is questionable—you see a kid squinting at the music or unable to see the difference between notes—contact school authorities (classroom teacher, school counselor, school nurse, and/or principal).</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gnitive Processes</a:t>
            </a:r>
            <a:endParaRPr b="0" lang="en-US" sz="4400" spc="-1" strike="noStrike">
              <a:solidFill>
                <a:srgbClr val="061c62"/>
              </a:solidFill>
              <a:latin typeface="Times New Roman"/>
            </a:endParaRPr>
          </a:p>
        </p:txBody>
      </p:sp>
      <p:sp>
        <p:nvSpPr>
          <p:cNvPr id="2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ur cognitive processes include:</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rthographic and phonological processing,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king and long-term memory,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d recognition,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onstruction of phrase and sentence sense,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ext building,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nd an internal text representatio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13" name="PlaceHolder 2"/>
          <p:cNvSpPr>
            <a:spLocks noGrp="1"/>
          </p:cNvSpPr>
          <p:nvPr>
            <p:ph/>
          </p:nvPr>
        </p:nvSpPr>
        <p:spPr>
          <a:xfrm>
            <a:off x="228240" y="1066680"/>
            <a:ext cx="7543800" cy="4114800"/>
          </a:xfrm>
          <a:prstGeom prst="rect">
            <a:avLst/>
          </a:prstGeom>
          <a:noFill/>
          <a:ln w="0">
            <a:noFill/>
          </a:ln>
        </p:spPr>
        <p:txBody>
          <a:bodyPr lIns="90000" rIns="90000" tIns="46800" bIns="46800" anchor="t">
            <a:normAutofit fontScale="86000"/>
          </a:bodyPr>
          <a:p>
            <a:pPr indent="0">
              <a:lnSpc>
                <a:spcPct val="90000"/>
              </a:lnSpc>
              <a:spcBef>
                <a:spcPts val="60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You read in tiny moments of eye fixations on a word or a small group of words.  Each fixation lasts about a quarter to a half a second.  These fixations take up about 90-95% of your reading time.  After a fixation, your eyes jump to the next fixation.  Reading psychologists call the jumps </a:t>
            </a:r>
            <a:r>
              <a:rPr b="0" i="1" lang="en-US" sz="2400" spc="-1" strike="noStrike" u="sng">
                <a:solidFill>
                  <a:srgbClr val="2d2525"/>
                </a:solidFill>
                <a:uFillTx/>
                <a:latin typeface="Times New Roman"/>
              </a:rPr>
              <a:t>saccades</a:t>
            </a:r>
            <a:r>
              <a:rPr b="0" i="1" lang="en-US" sz="2400" spc="-1" strike="noStrike">
                <a:solidFill>
                  <a:srgbClr val="2d2525"/>
                </a:solidFill>
                <a:latin typeface="Times New Roman"/>
              </a:rPr>
              <a:t>, and each saccade takes about 20 milliseconds or 2% of one second.  Bauer (1994) compared reading to a slide show in which our eyes are exposed to about four slides per second.  Each slide provides graphic information about the words that we rapidly process into a meaningful mental movie.  If we assume that each fixation skilled readers take in about one word, that means they read at about 240 words per minute (4x60).  Knowing, as we do, that good readers occasionally take in two words or more at some fixations (and occasionally reread), we could easily justify an average skilled reader’s rate of about 300 words per minut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528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15" name="PlaceHolder 2"/>
          <p:cNvSpPr>
            <a:spLocks noGrp="1"/>
          </p:cNvSpPr>
          <p:nvPr>
            <p:ph/>
          </p:nvPr>
        </p:nvSpPr>
        <p:spPr>
          <a:xfrm>
            <a:off x="0" y="685440"/>
            <a:ext cx="7696080" cy="43434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But do the whole words always translate into meanings or do good readers perceive individual letters and letter patterns before processing the word?  Although on the surface good readers appear to grasp words as units, we have evidence that they actually process individual letters of words in the texts they read.  However, good readers link letters into patterns that they have seen over and over again so that they do not always experience the letters as independent units.  During a fixation, the visual form of letters combine into groups or units of recognizable letters.  The more frequently a reader encounters letters and letter units of two or three letters, the more quickly these letters and letter units will activate the meaning for the word they represent.</a:t>
            </a:r>
            <a:endParaRPr b="0" i="1" lang="en-US" sz="2400" spc="-1" strike="noStrike">
              <a:solidFill>
                <a:srgbClr val="2d2525"/>
              </a:solidFill>
              <a:latin typeface="Times New Roman"/>
            </a:endParaRPr>
          </a:p>
        </p:txBody>
      </p:sp>
      <p:sp>
        <p:nvSpPr>
          <p:cNvPr id="216" name=""/>
          <p:cNvSpPr/>
          <p:nvPr/>
        </p:nvSpPr>
        <p:spPr>
          <a:xfrm>
            <a:off x="0" y="5392800"/>
            <a:ext cx="794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usicians do the same thing.  I remember watching a young musician sight read.  The piece she was reading was in a minor key and I could tell she had not had enough experience with minor keys to make sense of the notes she was reading.  Minor keys have different patterns from major keys and she was not able to recognize the unfamiliar patterns.</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1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Among the operations that occur during orthographic processing are the encoding of letter order and the division of long words into parts or syllables.  Inspire, conspire, perspire, suspire, transpire.  For a struggling reader, grasping the letter order for these revealing words would itself be daunting, but then each word needs to be divided into its meaning-revealing syllables, its prefix and root.  While poor readers have trouble reporting letter order in the words they read, good readers rarely make errors of that kind.  Good readers have gained sufficient knowledge of letter patterns and their more common associations.  That letter pattern knowledge helps to reinforce their perception of printed words.  However, weak readers, who lack sufficient knowledge of letter associations, are less able to use their memory of letter patterns to help with word recognition and the reporting of letter order</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While a good eighth grade reader is unlikely to have trouble identifying the patter of letters that make up “frequent” in the word “frequently,” a weak eighth grade reader who infrequently reads the word would.  Frequent errors in letter order reporting have been interpreted as a manifestation of dyslexia in the form of a perceptual deficit.  However, researchers have shown that the root cause of frequent errors in letter order probably arises from poor orthographic training and insufficient opportunities to develop knowledge of letter patterns.</a:t>
            </a:r>
            <a:endParaRPr b="0" i="1" lang="en-US" sz="2400" spc="-1" strike="noStrike">
              <a:solidFill>
                <a:srgbClr val="2d2525"/>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2" name="PlaceHolder 2"/>
          <p:cNvSpPr>
            <a:spLocks noGrp="1"/>
          </p:cNvSpPr>
          <p:nvPr>
            <p:ph/>
          </p:nvPr>
        </p:nvSpPr>
        <p:spPr>
          <a:xfrm>
            <a:off x="0" y="1066320"/>
            <a:ext cx="7696080" cy="4343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The other function of the orthographic process is its capacity to break down polysyllabic words, such as antidisestablishmentarianism.  As you read such words, you may notice that you attack the word by breaking it into syllables (12 in this case) rather than seeing it letter by letter.  Good readers are skillful at breaking longer words down into their syllables while weaker readers struggle with such words.  Researchers have shown that good readers use their knowledge of letter strings and associations to break longer words into parts or syllables.  Because they have over-learned word patters and common associations, good readers segment longer words at such a rapid pace that it appears automatic.  Less skilled readers, however, may take an uncomfortably long time to pronounce a word like “reverence” yet not identify its meaning.  This may be one of several reasons for caution when asking a class of students to engage in round robin reading (everyone takes a turn reading).</a:t>
            </a:r>
            <a:endParaRPr b="0" i="1" lang="en-US" sz="2000" spc="-1" strike="noStrike">
              <a:solidFill>
                <a:srgbClr val="2d2525"/>
              </a:solidFill>
              <a:latin typeface="Times New Roman"/>
            </a:endParaRPr>
          </a:p>
        </p:txBody>
      </p:sp>
      <p:sp>
        <p:nvSpPr>
          <p:cNvPr id="223" name=""/>
          <p:cNvSpPr/>
          <p:nvPr/>
        </p:nvSpPr>
        <p:spPr>
          <a:xfrm>
            <a:off x="0" y="5527800"/>
            <a:ext cx="78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I’m guessing that good musicians, when sight reading, combine notes into phrases, while poor sight readers play note to note without feeling the phrasing.  This would be the opposite of breaking down words into syllables.</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5" name="PlaceHolder 2"/>
          <p:cNvSpPr>
            <a:spLocks noGrp="1"/>
          </p:cNvSpPr>
          <p:nvPr>
            <p:ph/>
          </p:nvPr>
        </p:nvSpPr>
        <p:spPr>
          <a:xfrm>
            <a:off x="0" y="1676520"/>
            <a:ext cx="739152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Cat.  As a knowledgeable reader, you knew the word at a glance.  The reader sees c in the word, but, because the whole word lies in our visual span at one fixation, we can also see a and t.  Each letter contributes to heightening excitation for the associated network of the word cat.  If you were just beginning to read, your recognition of the word cat would not have been as automatic.  However, because you have read, heard, spoken, and written the word hundreds of times, its pattern recognition is instantaneous.  Adams (1990) has pointed out that if beginning readers cannot recognize individual letters and letter patterns automatically and transform those letters into words that have meaning for them, then their frustration will probably keep them from reading at all.</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Catalogue.  There’s that “cat” again.  But this is no word-at-a-glance for early or weak readers.  For this word, the reader has to have a pretty good knowledge of its spelling pattern and be able to break it down into its parts.  A good reader, skilled in parsing words and nearly automatic when faced with finding information from a catalogue of words, will have little trouble with the associated letter patterns and meaning stored in long-term memory. </a:t>
            </a:r>
            <a:endParaRPr b="0" i="1" lang="en-US" sz="2400" spc="-1" strike="noStrike">
              <a:solidFill>
                <a:srgbClr val="2d2525"/>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A basic question about the processing of letters and words is this:  Do readers sound them out?  To answer this question, we must look at the role of phonological processing in reading.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29" name="PlaceHolder 2"/>
          <p:cNvSpPr>
            <a:spLocks noGrp="1"/>
          </p:cNvSpPr>
          <p:nvPr>
            <p:ph/>
          </p:nvPr>
        </p:nvSpPr>
        <p:spPr>
          <a:xfrm>
            <a:off x="0" y="1066680"/>
            <a:ext cx="73915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Phonological processing occurs as letters, associated patterns of letters, or words activate (usually automatically in good readers) their corresponding sounds.  But must these sounds always become activated for a reader to become aware of a word’s meaning?Earlier in the history of reading research, educators widely accepted a “dual-route” model.  According to that model, two pathways following visual stimulation could be taken.  One path by-passed phonological mediation and led directly to the lexicon.  A second route, more indirect, went through phonological processing, wherein stored spelling-to-sound correspondences were activated.  After much investigation, Seidenberg (1985) established that phonological coding was usually involved in accessing a word’s meaning, especially in the case of infrequently used words.</a:t>
            </a:r>
            <a:endParaRPr b="0" i="1" lang="en-US" sz="2000" spc="-1" strike="noStrike">
              <a:solidFill>
                <a:srgbClr val="2d2525"/>
              </a:solidFill>
              <a:latin typeface="Times New Roman"/>
            </a:endParaRPr>
          </a:p>
        </p:txBody>
      </p:sp>
      <p:sp>
        <p:nvSpPr>
          <p:cNvPr id="230" name=""/>
          <p:cNvSpPr/>
          <p:nvPr/>
        </p:nvSpPr>
        <p:spPr>
          <a:xfrm>
            <a:off x="0" y="5241960"/>
            <a:ext cx="786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a:t>
            </a:r>
            <a:r>
              <a:rPr b="0" lang="en-US" sz="2000" spc="-1" strike="noStrike">
                <a:solidFill>
                  <a:srgbClr val="365d96"/>
                </a:solidFill>
                <a:latin typeface="Times New Roman"/>
              </a:rPr>
              <a:t>Lexicon” and “lexical” refer to the bank of words for which we know the meaning.  A lexicon is a fancy word for “dictionary.”  We each have a dictionary of words in our heads.  At issue here is what happens after you see a word.  Does your brain go next to translating the sight to sound or does it go straight to the dictionary without translating into sound?</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9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monitor their comprehension process while reading and recognize those moments of mental blackout and misunderstandings that lead us into confusion.  This activity is related to metacognition.</a:t>
            </a:r>
            <a:endParaRPr b="0" i="1" lang="en-US" sz="3200" spc="-1" strike="noStrike">
              <a:solidFill>
                <a:srgbClr val="2d2525"/>
              </a:solidFill>
              <a:latin typeface="Times New Roman"/>
            </a:endParaRPr>
          </a:p>
        </p:txBody>
      </p:sp>
      <p:sp>
        <p:nvSpPr>
          <p:cNvPr id="97" name=""/>
          <p:cNvSpPr/>
          <p:nvPr/>
        </p:nvSpPr>
        <p:spPr>
          <a:xfrm>
            <a:off x="212760" y="560376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Metacognition is a critical concept to know for Praxis.  It will be defined later in this slide show.</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2" name="PlaceHolder 2"/>
          <p:cNvSpPr>
            <a:spLocks noGrp="1"/>
          </p:cNvSpPr>
          <p:nvPr>
            <p:ph/>
          </p:nvPr>
        </p:nvSpPr>
        <p:spPr>
          <a:xfrm>
            <a:off x="228600" y="121932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owever, research revealed that several related reading processes, such as orthographic and phonological, could occur at the same time and side-by-side.  With “parallel activation models,” phonological activation is a clear result of orthographic activation.  If the parallel processing view holds up and becomes standard, the issue of dual-routes and the question of whether lexical access occurs before or after phonological processing will be a non-issue.</a:t>
            </a:r>
            <a:endParaRPr b="0" i="1" lang="en-US" sz="2800" spc="-1" strike="noStrike">
              <a:solidFill>
                <a:srgbClr val="2d2525"/>
              </a:solidFill>
              <a:latin typeface="Times New Roman"/>
            </a:endParaRPr>
          </a:p>
        </p:txBody>
      </p:sp>
      <p:sp>
        <p:nvSpPr>
          <p:cNvPr id="233" name=""/>
          <p:cNvSpPr/>
          <p:nvPr/>
        </p:nvSpPr>
        <p:spPr>
          <a:xfrm>
            <a:off x="0" y="5603760"/>
            <a:ext cx="7924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Brain-based research suggests that the brain is a parallel processor, so it is likely that the brain sends a signal from the visual to both the phonological areas and the lexical/dictionary areas of the brain.  </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any other researchers have confirmed that good readers automatically produce letter-to-sound translations.  Rather than being an obstacle to readers, the phonological loop that echoes in sound can support reading in a couple of ways.  First, it can function as a back-up system to orthographic processing. Second, it enlarges readers’ working memory and thereby enhances comprehension, especially for more challenging text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letters are processed orthographically, their impression activates corresponding sounds that enable us to phonologically process texts.  The “feedback” sound of the word may help us process the printed letters more carefully, especially if we are having trouble recognizing an unfamiliar word.  We are more likely to pay more attention to letters that could be skipped and to see how letters, when sounded, form recognizable strings.  Furthermore, pronouncing a word like “salivate” can activate its potential meanings.  And, if both visual and auditory cues are familiar and similar, both orthographic and phonological processing will activate appropriate word meaning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Because many of the words we read are often repeated and over-learned, we do not have to translate letters and words into sounds to grasp their meaning.  Words orthographically processed can be directly recognized with little, if any, recourse to phonological processing.  But these over-learned words, such as “dog,” constitute only a small portion of the words we read.  Most words, such as “canine,” are encountered infrequently.  These infrequently used words often carry much of a text’s meaning.  And readers processing content area texts, such as those in math or science, frequently encounter large numbers of unfamiliar or new word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Good eleventh-grade readers can use their phonological backup system to help them understand less familiar words, such as “tangential,” and attack those that are entirely new, such as “inculcate.”  Less visually familiar words may, when sounded, triggers stronger associations with word meanings held in long-term memory, as might occur when “tangential” triggers “tangent.”  And longer words, like “tangential,” may have syllables that, when sounded, can help readers dissect and combine word elements to discover meaning.  Orthographic knowledge, of course, also helps in those attacks on unknown words, as readers visually associate strings of letters and recall common syllable break-point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4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aders may also pronounce words because they look like others they know. Researchers have found that children use analogies in reading and that their use increases as vocabularies enlarge.  If a reader knows how to say the word “light” and comes across “fight,” she may be able to analogize from the known pronunciation of “-ight” to the unknown word.  Of course, pronouncing a word doesn’t magically release its meaning.</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44" name=""/>
          <p:cNvSpPr/>
          <p:nvPr/>
        </p:nvSpPr>
        <p:spPr>
          <a:xfrm>
            <a:off x="2895480" y="0"/>
            <a:ext cx="1067040" cy="4572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External</a:t>
            </a:r>
            <a:endParaRPr b="0" lang="en-US" sz="1400" spc="-1" strike="noStrike">
              <a:solidFill>
                <a:srgbClr val="2d252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a:t>
            </a:r>
            <a:endParaRPr b="0" lang="en-US" sz="1400" spc="-1" strike="noStrike">
              <a:solidFill>
                <a:srgbClr val="2d2525"/>
              </a:solidFill>
              <a:latin typeface="Times New Roman"/>
            </a:endParaRPr>
          </a:p>
        </p:txBody>
      </p:sp>
      <p:sp>
        <p:nvSpPr>
          <p:cNvPr id="245" name=""/>
          <p:cNvSpPr/>
          <p:nvPr/>
        </p:nvSpPr>
        <p:spPr>
          <a:xfrm>
            <a:off x="2590920" y="685800"/>
            <a:ext cx="1600200" cy="3049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6" name=""/>
          <p:cNvSpPr/>
          <p:nvPr/>
        </p:nvSpPr>
        <p:spPr>
          <a:xfrm>
            <a:off x="2743200" y="990720"/>
            <a:ext cx="609480" cy="30456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7" name=""/>
          <p:cNvSpPr/>
          <p:nvPr/>
        </p:nvSpPr>
        <p:spPr>
          <a:xfrm>
            <a:off x="3429000" y="990720"/>
            <a:ext cx="609480" cy="30456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8" name=""/>
          <p:cNvSpPr/>
          <p:nvPr/>
        </p:nvSpPr>
        <p:spPr>
          <a:xfrm>
            <a:off x="2133720" y="1523880"/>
            <a:ext cx="1218960" cy="6098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9" name=""/>
          <p:cNvSpPr/>
          <p:nvPr/>
        </p:nvSpPr>
        <p:spPr>
          <a:xfrm>
            <a:off x="3505320" y="1523880"/>
            <a:ext cx="1143000" cy="6098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0" name=""/>
          <p:cNvSpPr/>
          <p:nvPr/>
        </p:nvSpPr>
        <p:spPr>
          <a:xfrm>
            <a:off x="2514600" y="2133720"/>
            <a:ext cx="1828800" cy="6858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1" name=""/>
          <p:cNvSpPr/>
          <p:nvPr/>
        </p:nvSpPr>
        <p:spPr>
          <a:xfrm>
            <a:off x="2438280" y="3124080"/>
            <a:ext cx="2057400" cy="9907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2" name=""/>
          <p:cNvSpPr/>
          <p:nvPr/>
        </p:nvSpPr>
        <p:spPr>
          <a:xfrm>
            <a:off x="2362320" y="4495680"/>
            <a:ext cx="2438280" cy="12956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3" name=""/>
          <p:cNvSpPr/>
          <p:nvPr/>
        </p:nvSpPr>
        <p:spPr>
          <a:xfrm>
            <a:off x="2438280" y="6095880"/>
            <a:ext cx="2438640" cy="7621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4" name=""/>
          <p:cNvSpPr/>
          <p:nvPr/>
        </p:nvSpPr>
        <p:spPr>
          <a:xfrm>
            <a:off x="152280" y="2133720"/>
            <a:ext cx="1828800" cy="41148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5" name=""/>
          <p:cNvSpPr/>
          <p:nvPr/>
        </p:nvSpPr>
        <p:spPr>
          <a:xfrm>
            <a:off x="5029200" y="0"/>
            <a:ext cx="2362320" cy="35812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6" name=""/>
          <p:cNvSpPr/>
          <p:nvPr/>
        </p:nvSpPr>
        <p:spPr>
          <a:xfrm>
            <a:off x="5181480" y="3733920"/>
            <a:ext cx="2057400" cy="31240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7" name=""/>
          <p:cNvSpPr/>
          <p:nvPr/>
        </p:nvSpPr>
        <p:spPr>
          <a:xfrm>
            <a:off x="7696080" y="1752480"/>
            <a:ext cx="1447920" cy="17528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8" name=""/>
          <p:cNvSpPr/>
          <p:nvPr/>
        </p:nvSpPr>
        <p:spPr>
          <a:xfrm>
            <a:off x="2590920" y="685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ensory System</a:t>
            </a:r>
            <a:endParaRPr b="0" lang="en-US" sz="1400" spc="-1" strike="noStrike">
              <a:solidFill>
                <a:srgbClr val="2d2525"/>
              </a:solidFill>
              <a:latin typeface="Times New Roman"/>
            </a:endParaRPr>
          </a:p>
        </p:txBody>
      </p:sp>
      <p:sp>
        <p:nvSpPr>
          <p:cNvPr id="259" name=""/>
          <p:cNvSpPr/>
          <p:nvPr/>
        </p:nvSpPr>
        <p:spPr>
          <a:xfrm>
            <a:off x="2666880" y="990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Image</a:t>
            </a:r>
            <a:endParaRPr b="0" lang="en-US" sz="1400" spc="-1" strike="noStrike">
              <a:solidFill>
                <a:srgbClr val="2d2525"/>
              </a:solidFill>
              <a:latin typeface="Times New Roman"/>
            </a:endParaRPr>
          </a:p>
        </p:txBody>
      </p:sp>
      <p:sp>
        <p:nvSpPr>
          <p:cNvPr id="260" name=""/>
          <p:cNvSpPr/>
          <p:nvPr/>
        </p:nvSpPr>
        <p:spPr>
          <a:xfrm>
            <a:off x="3352680" y="990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ound</a:t>
            </a:r>
            <a:endParaRPr b="0" lang="en-US" sz="1400" spc="-1" strike="noStrike">
              <a:solidFill>
                <a:srgbClr val="2d2525"/>
              </a:solidFill>
              <a:latin typeface="Times New Roman"/>
            </a:endParaRPr>
          </a:p>
        </p:txBody>
      </p:sp>
      <p:sp>
        <p:nvSpPr>
          <p:cNvPr id="261" name=""/>
          <p:cNvSpPr/>
          <p:nvPr/>
        </p:nvSpPr>
        <p:spPr>
          <a:xfrm>
            <a:off x="2133720" y="1523880"/>
            <a:ext cx="129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Orthographic</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ing</a:t>
            </a:r>
            <a:endParaRPr b="0" lang="en-US" sz="1400" spc="-1" strike="noStrike">
              <a:solidFill>
                <a:srgbClr val="2d2525"/>
              </a:solidFill>
              <a:latin typeface="Times New Roman"/>
            </a:endParaRPr>
          </a:p>
        </p:txBody>
      </p:sp>
      <p:sp>
        <p:nvSpPr>
          <p:cNvPr id="262" name=""/>
          <p:cNvSpPr/>
          <p:nvPr/>
        </p:nvSpPr>
        <p:spPr>
          <a:xfrm>
            <a:off x="3429000" y="1523880"/>
            <a:ext cx="129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honological</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ing</a:t>
            </a:r>
            <a:endParaRPr b="0" lang="en-US" sz="1400" spc="-1" strike="noStrike">
              <a:solidFill>
                <a:srgbClr val="2d2525"/>
              </a:solidFill>
              <a:latin typeface="Times New Roman"/>
            </a:endParaRPr>
          </a:p>
        </p:txBody>
      </p:sp>
      <p:sp>
        <p:nvSpPr>
          <p:cNvPr id="263" name=""/>
          <p:cNvSpPr/>
          <p:nvPr/>
        </p:nvSpPr>
        <p:spPr>
          <a:xfrm>
            <a:off x="2743200" y="2133720"/>
            <a:ext cx="1981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Recognition</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meanings</a:t>
            </a:r>
            <a:endParaRPr b="0" lang="en-US" sz="1400" spc="-1" strike="noStrike">
              <a:solidFill>
                <a:srgbClr val="2d2525"/>
              </a:solidFill>
              <a:latin typeface="Times New Roman"/>
            </a:endParaRPr>
          </a:p>
        </p:txBody>
      </p:sp>
      <p:sp>
        <p:nvSpPr>
          <p:cNvPr id="264" name=""/>
          <p:cNvSpPr/>
          <p:nvPr/>
        </p:nvSpPr>
        <p:spPr>
          <a:xfrm>
            <a:off x="2438280" y="3124080"/>
            <a:ext cx="23623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hrase/Sentence Sens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position Construction</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position Integration</a:t>
            </a:r>
            <a:endParaRPr b="0" lang="en-US" sz="1400" spc="-1" strike="noStrike">
              <a:solidFill>
                <a:srgbClr val="2d2525"/>
              </a:solidFill>
              <a:latin typeface="Times New Roman"/>
            </a:endParaRPr>
          </a:p>
        </p:txBody>
      </p:sp>
      <p:sp>
        <p:nvSpPr>
          <p:cNvPr id="265" name=""/>
          <p:cNvSpPr/>
          <p:nvPr/>
        </p:nvSpPr>
        <p:spPr>
          <a:xfrm>
            <a:off x="2438280" y="4495680"/>
            <a:ext cx="22860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Build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ext Process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entence Link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ist Construction</a:t>
            </a:r>
            <a:endParaRPr b="0" lang="en-US" sz="1400" spc="-1" strike="noStrike">
              <a:solidFill>
                <a:srgbClr val="2d2525"/>
              </a:solidFill>
              <a:latin typeface="Times New Roman"/>
            </a:endParaRPr>
          </a:p>
        </p:txBody>
      </p:sp>
      <p:sp>
        <p:nvSpPr>
          <p:cNvPr id="266" name=""/>
          <p:cNvSpPr/>
          <p:nvPr/>
        </p:nvSpPr>
        <p:spPr>
          <a:xfrm>
            <a:off x="2514600" y="6095880"/>
            <a:ext cx="2438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Internal Text Representation:</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Verbal and visual</a:t>
            </a:r>
            <a:endParaRPr b="0" lang="en-US" sz="1400" spc="-1" strike="noStrike">
              <a:solidFill>
                <a:srgbClr val="2d2525"/>
              </a:solidFill>
              <a:latin typeface="Times New Roman"/>
            </a:endParaRPr>
          </a:p>
        </p:txBody>
      </p:sp>
      <p:sp>
        <p:nvSpPr>
          <p:cNvPr id="267" name=""/>
          <p:cNvSpPr/>
          <p:nvPr/>
        </p:nvSpPr>
        <p:spPr>
          <a:xfrm>
            <a:off x="228600" y="2286000"/>
            <a:ext cx="1828800" cy="385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es; Monitoring</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amp; Controll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tandards of evaluation</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strategie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trategy selection</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lanning (Part of long term memory and active in working memory)</a:t>
            </a:r>
            <a:endParaRPr b="0" lang="en-US" sz="1400" spc="-1" strike="noStrike">
              <a:solidFill>
                <a:srgbClr val="2d2525"/>
              </a:solidFill>
              <a:latin typeface="Times New Roman"/>
            </a:endParaRPr>
          </a:p>
        </p:txBody>
      </p:sp>
      <p:sp>
        <p:nvSpPr>
          <p:cNvPr id="268" name=""/>
          <p:cNvSpPr/>
          <p:nvPr/>
        </p:nvSpPr>
        <p:spPr>
          <a:xfrm>
            <a:off x="5105520" y="0"/>
            <a:ext cx="2438280" cy="3643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ong-Term Memory</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Knowledge in  Schemata</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Declarative, Procedural, Conditional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Knowledge of language (orthographic, phonological, lexical, syntactical)</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analysis skills (encoding production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structure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mprehension strategie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knowledge and strategies</a:t>
            </a:r>
            <a:endParaRPr b="0" lang="en-US" sz="1400" spc="-1" strike="noStrike">
              <a:solidFill>
                <a:srgbClr val="2d2525"/>
              </a:solidFill>
              <a:latin typeface="Times New Roman"/>
            </a:endParaRPr>
          </a:p>
        </p:txBody>
      </p:sp>
      <p:sp>
        <p:nvSpPr>
          <p:cNvPr id="269" name=""/>
          <p:cNvSpPr/>
          <p:nvPr/>
        </p:nvSpPr>
        <p:spPr>
          <a:xfrm>
            <a:off x="5181480" y="3681360"/>
            <a:ext cx="2210040" cy="322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king Memory</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Visual features of text</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form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meaning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rammar rule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ist unit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opic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enre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skills</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Active text representation</a:t>
            </a:r>
            <a:endParaRPr b="0" lang="en-US" sz="1400" spc="-1" strike="noStrike">
              <a:solidFill>
                <a:srgbClr val="2d2525"/>
              </a:solidFill>
              <a:latin typeface="Times New Roman"/>
            </a:endParaRPr>
          </a:p>
        </p:txBody>
      </p:sp>
      <p:sp>
        <p:nvSpPr>
          <p:cNvPr id="270" name=""/>
          <p:cNvSpPr/>
          <p:nvPr/>
        </p:nvSpPr>
        <p:spPr>
          <a:xfrm>
            <a:off x="7924680" y="2133720"/>
            <a:ext cx="14479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amp;</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lassroom</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ext</a:t>
            </a:r>
            <a:endParaRPr b="0" lang="en-US" sz="1400" spc="-1" strike="noStrike">
              <a:solidFill>
                <a:srgbClr val="2d2525"/>
              </a:solidFill>
              <a:latin typeface="Times New Roman"/>
            </a:endParaRPr>
          </a:p>
        </p:txBody>
      </p:sp>
      <p:sp>
        <p:nvSpPr>
          <p:cNvPr id="271" name=""/>
          <p:cNvSpPr/>
          <p:nvPr/>
        </p:nvSpPr>
        <p:spPr>
          <a:xfrm>
            <a:off x="990720" y="16765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onitoring</a:t>
            </a:r>
            <a:endParaRPr b="0" lang="en-US" sz="1400" spc="-1" strike="noStrike">
              <a:solidFill>
                <a:srgbClr val="2d2525"/>
              </a:solidFill>
              <a:latin typeface="Times New Roman"/>
            </a:endParaRPr>
          </a:p>
        </p:txBody>
      </p:sp>
      <p:sp>
        <p:nvSpPr>
          <p:cNvPr id="272" name=""/>
          <p:cNvSpPr/>
          <p:nvPr/>
        </p:nvSpPr>
        <p:spPr>
          <a:xfrm>
            <a:off x="1066680" y="65530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rolling</a:t>
            </a:r>
            <a:endParaRPr b="0" lang="en-US" sz="1400" spc="-1" strike="noStrike">
              <a:solidFill>
                <a:srgbClr val="2d2525"/>
              </a:solidFill>
              <a:latin typeface="Times New Roman"/>
            </a:endParaRPr>
          </a:p>
        </p:txBody>
      </p:sp>
      <p:sp>
        <p:nvSpPr>
          <p:cNvPr id="273" name=""/>
          <p:cNvSpPr/>
          <p:nvPr/>
        </p:nvSpPr>
        <p:spPr>
          <a:xfrm>
            <a:off x="3429000" y="457200"/>
            <a:ext cx="0" cy="22860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4" name=""/>
          <p:cNvSpPr/>
          <p:nvPr/>
        </p:nvSpPr>
        <p:spPr>
          <a:xfrm>
            <a:off x="3048120" y="1295280"/>
            <a:ext cx="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5" name=""/>
          <p:cNvSpPr/>
          <p:nvPr/>
        </p:nvSpPr>
        <p:spPr>
          <a:xfrm>
            <a:off x="3733920" y="1295280"/>
            <a:ext cx="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6" name=""/>
          <p:cNvSpPr/>
          <p:nvPr/>
        </p:nvSpPr>
        <p:spPr>
          <a:xfrm>
            <a:off x="3276720" y="1828800"/>
            <a:ext cx="30456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7" name=""/>
          <p:cNvSpPr/>
          <p:nvPr/>
        </p:nvSpPr>
        <p:spPr>
          <a:xfrm>
            <a:off x="3429000" y="2819520"/>
            <a:ext cx="0" cy="3045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8" name=""/>
          <p:cNvSpPr/>
          <p:nvPr/>
        </p:nvSpPr>
        <p:spPr>
          <a:xfrm>
            <a:off x="3505320" y="4114800"/>
            <a:ext cx="0" cy="38088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9" name=""/>
          <p:cNvSpPr/>
          <p:nvPr/>
        </p:nvSpPr>
        <p:spPr>
          <a:xfrm>
            <a:off x="3505320" y="5791320"/>
            <a:ext cx="0" cy="3045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0" name=""/>
          <p:cNvSpPr/>
          <p:nvPr/>
        </p:nvSpPr>
        <p:spPr>
          <a:xfrm flipV="1">
            <a:off x="4876920" y="3580920"/>
            <a:ext cx="3657600" cy="2514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1" name=""/>
          <p:cNvSpPr/>
          <p:nvPr/>
        </p:nvSpPr>
        <p:spPr>
          <a:xfrm>
            <a:off x="4876920" y="6477120"/>
            <a:ext cx="30456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2" name=""/>
          <p:cNvSpPr/>
          <p:nvPr/>
        </p:nvSpPr>
        <p:spPr>
          <a:xfrm>
            <a:off x="4800600" y="5029200"/>
            <a:ext cx="38088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3" name=""/>
          <p:cNvSpPr/>
          <p:nvPr/>
        </p:nvSpPr>
        <p:spPr>
          <a:xfrm>
            <a:off x="4495680" y="4038480"/>
            <a:ext cx="685800" cy="38124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4" name=""/>
          <p:cNvSpPr/>
          <p:nvPr/>
        </p:nvSpPr>
        <p:spPr>
          <a:xfrm>
            <a:off x="4343400" y="2819520"/>
            <a:ext cx="838080" cy="12189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5" name=""/>
          <p:cNvSpPr/>
          <p:nvPr/>
        </p:nvSpPr>
        <p:spPr>
          <a:xfrm>
            <a:off x="6172200" y="3505320"/>
            <a:ext cx="0" cy="3045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6" name=""/>
          <p:cNvSpPr/>
          <p:nvPr/>
        </p:nvSpPr>
        <p:spPr>
          <a:xfrm flipH="1" flipV="1">
            <a:off x="3962520" y="228240"/>
            <a:ext cx="4495680" cy="1523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7" name=""/>
          <p:cNvSpPr/>
          <p:nvPr/>
        </p:nvSpPr>
        <p:spPr>
          <a:xfrm flipH="1">
            <a:off x="1752120" y="1905120"/>
            <a:ext cx="38124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8" name=""/>
          <p:cNvSpPr/>
          <p:nvPr/>
        </p:nvSpPr>
        <p:spPr>
          <a:xfrm>
            <a:off x="1523880" y="6248520"/>
            <a:ext cx="914400" cy="380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9" name=""/>
          <p:cNvSpPr/>
          <p:nvPr/>
        </p:nvSpPr>
        <p:spPr>
          <a:xfrm>
            <a:off x="0" y="0"/>
            <a:ext cx="213372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5d96"/>
                </a:solidFill>
                <a:latin typeface="Times New Roman"/>
              </a:rPr>
              <a:t>This is an expansion of the previous chart. Note how many of the arrows are double headed, indicating that information flows in both directions.</a:t>
            </a:r>
            <a:endParaRPr b="0" lang="en-US" sz="1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king memory</a:t>
            </a:r>
            <a:endParaRPr b="0" lang="en-US" sz="4400" spc="-1" strike="noStrike">
              <a:solidFill>
                <a:srgbClr val="061c62"/>
              </a:solidFill>
              <a:latin typeface="Times New Roman"/>
            </a:endParaRPr>
          </a:p>
        </p:txBody>
      </p:sp>
      <p:sp>
        <p:nvSpPr>
          <p:cNvPr id="2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ithout memory you simply could not read this.  The letters and words would go through your sensory system and brain as though it were a sieve with no meaningful residue whatsoever.  There are brain-damaged individuals who can’t remember any new experiences, including what they read.  Fortunately, most of us have several forms of memory that, when explained, will help you understand how they help—and limit—reading.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king memory</a:t>
            </a:r>
            <a:endParaRPr b="0" lang="en-US" sz="4400" spc="-1" strike="noStrike">
              <a:solidFill>
                <a:srgbClr val="061c62"/>
              </a:solidFill>
              <a:latin typeface="Times New Roman"/>
            </a:endParaRPr>
          </a:p>
        </p:txBody>
      </p:sp>
      <p:sp>
        <p:nvSpPr>
          <p:cNvPr id="29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orking memory is where we represent the immediate world, actively compute solutions, such as making sense out of this text, and remember the results for rather short periods of time.  (Do you remember the first word of the last sentence you read?)  Working memory also creates mental and learning bottlenecks.  That’s because its capacity to hold information is very limited and the limited amount of information it can hold deteriorates rather fast.  So what we have is a limited memory bank or cognitive resource to proceed with reading and to keep short term track of our progress through symbolic representations.  Fortunately, mental functions such as recognizing the meaning of a word can become automatic and reduce the demands on working memory so that it can work harder on tougher tasks like comprehending more complex passage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9140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king memory</a:t>
            </a:r>
            <a:endParaRPr b="0" lang="en-US" sz="4400" spc="-1" strike="noStrike">
              <a:solidFill>
                <a:srgbClr val="061c62"/>
              </a:solidFill>
              <a:latin typeface="Times New Roman"/>
            </a:endParaRPr>
          </a:p>
        </p:txBody>
      </p:sp>
      <p:sp>
        <p:nvSpPr>
          <p:cNvPr id="29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hile reading, working memory keeps essential meaning construction data and skills active, including letters and words from the text on the page and knowledge from long-term memory that transfers into working memory.  From the text being read, working memory holds orthographic information in the form of letters and phonological responses or analogues in the form of sounds that correspond to the images observed.  Dog, as a pattern of letters and /dog/ as corresponding sounds, interact to reinforce and maintain meaning in memory.  Knowledge and skills transferred into working memory from long-term memory include knowledge networks of many kinds, such as word meanings and text structure knowledge.  All of these forms of knowledge and skills enable us to make sense of texts.  Working memory also maintains the result of our text building efforts:  an active mental text representation that is continually updated as we read.  </a:t>
            </a:r>
            <a:endParaRPr b="0" i="1" lang="en-US" sz="2000" spc="-1" strike="noStrike">
              <a:solidFill>
                <a:srgbClr val="2d2525"/>
              </a:solidFill>
              <a:latin typeface="Times New Roman"/>
            </a:endParaRPr>
          </a:p>
        </p:txBody>
      </p:sp>
      <p:sp>
        <p:nvSpPr>
          <p:cNvPr id="296" name=""/>
          <p:cNvSpPr/>
          <p:nvPr/>
        </p:nvSpPr>
        <p:spPr>
          <a:xfrm>
            <a:off x="0" y="1440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Working memory is a lot like RAM in your computer:  it holds the programs and data you are currently using.  Your hard disk (like your long term memory) holds a lot more information, which you use at other times.  </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pay attention to the spectrum of information they are reading and categorize it from important to unimportant, giving priority to major content and secondary attention to trivia.  </a:t>
            </a:r>
            <a:endParaRPr b="0" i="1" lang="en-US" sz="3200" spc="-1" strike="noStrike">
              <a:solidFill>
                <a:srgbClr val="2d2525"/>
              </a:solidFill>
              <a:latin typeface="Times New Roman"/>
            </a:endParaRPr>
          </a:p>
        </p:txBody>
      </p:sp>
      <p:sp>
        <p:nvSpPr>
          <p:cNvPr id="100" name=""/>
          <p:cNvSpPr/>
          <p:nvPr/>
        </p:nvSpPr>
        <p:spPr>
          <a:xfrm>
            <a:off x="0" y="4575240"/>
            <a:ext cx="75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e read the same way we play music.  When we perform music, we emphasize the important notes (usually the melody) and within the melody we emphasize the “high points” of the melody.  In relation to the melody, we de-emphasize the accompaniment.  This is part of how we make meaning in music.</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1828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ong term memory</a:t>
            </a:r>
            <a:endParaRPr b="0" lang="en-US" sz="4400" spc="-1" strike="noStrike">
              <a:solidFill>
                <a:srgbClr val="061c62"/>
              </a:solidFill>
              <a:latin typeface="Times New Roman"/>
            </a:endParaRPr>
          </a:p>
        </p:txBody>
      </p:sp>
      <p:sp>
        <p:nvSpPr>
          <p:cNvPr id="298" name="PlaceHolder 2"/>
          <p:cNvSpPr>
            <a:spLocks noGrp="1"/>
          </p:cNvSpPr>
          <p:nvPr>
            <p:ph/>
          </p:nvPr>
        </p:nvSpPr>
        <p:spPr>
          <a:xfrm>
            <a:off x="-360" y="2743200"/>
            <a:ext cx="7543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hat comes into working memory from past learning and experience arrives there only because of its access to long-term memory (LTM).  We draw on information stored in LTM to help us deal with issues or problems that are currently alive in working memory.  How does LTM serve readers?  Readers hold many forms of information in LTM that have a number of different functions.  Forms of LTM that are critically important to reading include declarative, procedural, and conditional knowledge, knowledge of language (orthographic, phonological, lexical, and syntactical knowledge), word analysis skills (encoding productions resulting in word recognition), text-structure knowledge, comprehension strategies, and metacognitive knowledge and strategies.  The activation and application of nearly all these forms of knowledge held in LTM is best understood through schema theory.</a:t>
            </a:r>
            <a:endParaRPr b="0" i="1" lang="en-US" sz="2000" spc="-1" strike="noStrike">
              <a:solidFill>
                <a:srgbClr val="2d2525"/>
              </a:solidFill>
              <a:latin typeface="Times New Roman"/>
            </a:endParaRPr>
          </a:p>
        </p:txBody>
      </p:sp>
      <p:sp>
        <p:nvSpPr>
          <p:cNvPr id="299" name=""/>
          <p:cNvSpPr/>
          <p:nvPr/>
        </p:nvSpPr>
        <p:spPr>
          <a:xfrm>
            <a:off x="0" y="0"/>
            <a:ext cx="7864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Syntactical knowledge:  syntax has to do with word order.  Language not only requires the use of vocabulary, but also word order can be very important.  “The cat plays with the ball” and “the ball plays with the cat” use exactly the same words, but they have very different meanings because of syntax.  Each language has its own syntax.  For example, in French, one says “I you love”  (Je t’aime) instead of “I love you.”  </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0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A </a:t>
            </a:r>
            <a:r>
              <a:rPr b="0" i="1" lang="en-US" sz="2000" spc="-1" strike="noStrike" u="sng">
                <a:solidFill>
                  <a:srgbClr val="2d2525"/>
                </a:solidFill>
                <a:uFillTx/>
                <a:latin typeface="Times New Roman"/>
              </a:rPr>
              <a:t>schema</a:t>
            </a:r>
            <a:r>
              <a:rPr b="0" i="1" lang="en-US" sz="2000" spc="-1" strike="noStrike">
                <a:solidFill>
                  <a:srgbClr val="2d2525"/>
                </a:solidFill>
                <a:latin typeface="Times New Roman"/>
              </a:rPr>
              <a:t> is a knowledge network, an organized cognitive pattern, or a script that guides our behavior, including what we do with information gathered from reading.  We can compare it to files of knowledge with associated “slots” that a reader fills with related information gained from a text.  If readers have activated schema for knowledge about which they are reading, the schema can provide slots for incoming data, making the reading process relatively effortless.  According to schema theory, what we know about grocery stores, restaurants, football, animals, WWII, ecology, [</a:t>
            </a:r>
            <a:r>
              <a:rPr b="0" i="1" lang="en-US" sz="2000" spc="-1" strike="noStrike">
                <a:solidFill>
                  <a:srgbClr val="365d96"/>
                </a:solidFill>
                <a:latin typeface="Times New Roman"/>
              </a:rPr>
              <a:t>MUSIC</a:t>
            </a:r>
            <a:r>
              <a:rPr b="0" i="1" lang="en-US" sz="2000" spc="-1" strike="noStrike">
                <a:solidFill>
                  <a:srgbClr val="2d2525"/>
                </a:solidFill>
                <a:latin typeface="Times New Roman"/>
              </a:rPr>
              <a:t>], and even reading is organized into associated networks or schemata (the plural form of schema).  </a:t>
            </a:r>
            <a:endParaRPr b="0" i="1" lang="en-US" sz="2000" spc="-1" strike="noStrike">
              <a:solidFill>
                <a:srgbClr val="2d2525"/>
              </a:solidFill>
              <a:latin typeface="Times New Roman"/>
            </a:endParaRPr>
          </a:p>
        </p:txBody>
      </p:sp>
      <p:sp>
        <p:nvSpPr>
          <p:cNvPr id="302" name=""/>
          <p:cNvSpPr/>
          <p:nvPr/>
        </p:nvSpPr>
        <p:spPr>
          <a:xfrm>
            <a:off x="-92160" y="-3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d2525"/>
              </a:solidFill>
              <a:latin typeface="Times New Roman"/>
            </a:endParaRPr>
          </a:p>
        </p:txBody>
      </p:sp>
      <p:sp>
        <p:nvSpPr>
          <p:cNvPr id="303" name=""/>
          <p:cNvSpPr/>
          <p:nvPr/>
        </p:nvSpPr>
        <p:spPr>
          <a:xfrm>
            <a:off x="-5040" y="0"/>
            <a:ext cx="45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is is an important Praxis concept.</a:t>
            </a:r>
            <a:endParaRPr b="0" lang="en-US" sz="2400" spc="-1" strike="noStrike">
              <a:solidFill>
                <a:srgbClr val="2d2525"/>
              </a:solidFill>
              <a:latin typeface="Times New Roman"/>
            </a:endParaRPr>
          </a:p>
        </p:txBody>
      </p:sp>
      <p:sp>
        <p:nvSpPr>
          <p:cNvPr id="304" name=""/>
          <p:cNvSpPr/>
          <p:nvPr/>
        </p:nvSpPr>
        <p:spPr>
          <a:xfrm>
            <a:off x="0" y="56800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en you are teaching music, you are helping students to develop schemata that they then activate every time they sing or play an instrument.</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30528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06" name="PlaceHolder 2"/>
          <p:cNvSpPr>
            <a:spLocks noGrp="1"/>
          </p:cNvSpPr>
          <p:nvPr>
            <p:ph/>
          </p:nvPr>
        </p:nvSpPr>
        <p:spPr>
          <a:xfrm>
            <a:off x="0" y="685800"/>
            <a:ext cx="76960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A schema can represent a network of events that commonly occurs when a specific situation arises, like going to a restaurant.  As researchers on scripts in memory have observed, going to a restaurant triggers a series of events:  entering, ordering, eating, and exiting.  A series of events occurs within each of these “scenes.”  When entering a restaurant, the customer looks for a table, decides where to sit, goes to the table, and sits down.  When reading a narrative text, readers presented with characters entering a restaurant are likely to activate the “slots” that compose the restaurant script and arouse expectations that may be met by the text or may distort events that actually are described in the text.  In short, activated schemata raise readers’ expectations that content already known may arise in the text.</a:t>
            </a:r>
            <a:endParaRPr b="0" i="1" lang="en-US" sz="2000" spc="-1" strike="noStrike">
              <a:solidFill>
                <a:srgbClr val="2d2525"/>
              </a:solidFill>
              <a:latin typeface="Times New Roman"/>
            </a:endParaRPr>
          </a:p>
        </p:txBody>
      </p:sp>
      <p:sp>
        <p:nvSpPr>
          <p:cNvPr id="307" name=""/>
          <p:cNvSpPr/>
          <p:nvPr/>
        </p:nvSpPr>
        <p:spPr>
          <a:xfrm>
            <a:off x="0" y="4632480"/>
            <a:ext cx="7940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Can you see how the restaurant schemata described above would not apply very well to a text about a five-star restaurant in which the maitre d’ seats the patrons?  Can you see that children who have never been to a restaurant would have more difficulty reading a text about eating at a restaurant?  What schemata you bring to a text determines how you understand that text.  As teachers, we need to make sure children have the schemata necessary to comprehend what we ask them to read.</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0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owever, schemata also serve as knowledge resources that enable us to build new knowledge structures.  Accordingly, readers do not always mechanistically fill slots but take chunks of knowledge from many different yet related knowledge structures and assemble new knowledge structures, new meanings.  Newly constructed schema allows for more organic, interdependent links than any linear, rigidly conceived schem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a:t>
            </a:r>
            <a:endParaRPr b="0" lang="en-US" sz="4400" spc="-1" strike="noStrike">
              <a:solidFill>
                <a:srgbClr val="061c62"/>
              </a:solidFill>
              <a:latin typeface="Times New Roman"/>
            </a:endParaRPr>
          </a:p>
        </p:txBody>
      </p:sp>
      <p:sp>
        <p:nvSpPr>
          <p:cNvPr id="3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What the author does not mention is the effect of incorrect schemata on reading.  For example, students are often told in music class, “the quarter note gets one beat.”  But that schema is not helpful in 6/8 timing.  When you are working with students on concepts that are significant to their reading or doing something, try to find out the content of their schemata so you can make sure that what they believe they know about something doesn’t impede their effort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12" name=""/>
          <p:cNvSpPr/>
          <p:nvPr/>
        </p:nvSpPr>
        <p:spPr>
          <a:xfrm>
            <a:off x="0" y="3200400"/>
            <a:ext cx="2057400" cy="12952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3" name=""/>
          <p:cNvSpPr/>
          <p:nvPr/>
        </p:nvSpPr>
        <p:spPr>
          <a:xfrm>
            <a:off x="1676520" y="4952880"/>
            <a:ext cx="1371600" cy="10670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4" name=""/>
          <p:cNvSpPr/>
          <p:nvPr/>
        </p:nvSpPr>
        <p:spPr>
          <a:xfrm>
            <a:off x="4038480" y="4952880"/>
            <a:ext cx="1219320" cy="10670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5" name=""/>
          <p:cNvSpPr/>
          <p:nvPr/>
        </p:nvSpPr>
        <p:spPr>
          <a:xfrm>
            <a:off x="4800600" y="3200400"/>
            <a:ext cx="1523880" cy="7621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6" name=""/>
          <p:cNvSpPr/>
          <p:nvPr/>
        </p:nvSpPr>
        <p:spPr>
          <a:xfrm>
            <a:off x="2590920" y="228600"/>
            <a:ext cx="1600200" cy="2057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7" name=""/>
          <p:cNvSpPr/>
          <p:nvPr/>
        </p:nvSpPr>
        <p:spPr>
          <a:xfrm>
            <a:off x="2590920" y="228600"/>
            <a:ext cx="1676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How schemata influence reading and learning</a:t>
            </a:r>
            <a:endParaRPr b="0" lang="en-US" sz="2400" spc="-1" strike="noStrike">
              <a:solidFill>
                <a:srgbClr val="2d2525"/>
              </a:solidFill>
              <a:latin typeface="Times New Roman"/>
            </a:endParaRPr>
          </a:p>
        </p:txBody>
      </p:sp>
      <p:sp>
        <p:nvSpPr>
          <p:cNvPr id="318" name=""/>
          <p:cNvSpPr/>
          <p:nvPr/>
        </p:nvSpPr>
        <p:spPr>
          <a:xfrm>
            <a:off x="0" y="3276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Provide scaffolding that enable us to assimilate knowledge</a:t>
            </a:r>
            <a:endParaRPr b="0" lang="en-US" sz="1800" spc="-1" strike="noStrike">
              <a:solidFill>
                <a:srgbClr val="2d2525"/>
              </a:solidFill>
              <a:latin typeface="Times New Roman"/>
            </a:endParaRPr>
          </a:p>
        </p:txBody>
      </p:sp>
      <p:sp>
        <p:nvSpPr>
          <p:cNvPr id="319" name=""/>
          <p:cNvSpPr/>
          <p:nvPr/>
        </p:nvSpPr>
        <p:spPr>
          <a:xfrm>
            <a:off x="1676520" y="502920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nfluence attention allocation</a:t>
            </a:r>
            <a:endParaRPr b="0" lang="en-US" sz="1800" spc="-1" strike="noStrike">
              <a:solidFill>
                <a:srgbClr val="2d2525"/>
              </a:solidFill>
              <a:latin typeface="Times New Roman"/>
            </a:endParaRPr>
          </a:p>
        </p:txBody>
      </p:sp>
      <p:sp>
        <p:nvSpPr>
          <p:cNvPr id="320" name=""/>
          <p:cNvSpPr/>
          <p:nvPr/>
        </p:nvSpPr>
        <p:spPr>
          <a:xfrm>
            <a:off x="4114800" y="502920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timulate inference making</a:t>
            </a:r>
            <a:endParaRPr b="0" lang="en-US" sz="1800" spc="-1" strike="noStrike">
              <a:solidFill>
                <a:srgbClr val="2d2525"/>
              </a:solidFill>
              <a:latin typeface="Times New Roman"/>
            </a:endParaRPr>
          </a:p>
        </p:txBody>
      </p:sp>
      <p:sp>
        <p:nvSpPr>
          <p:cNvPr id="321" name=""/>
          <p:cNvSpPr/>
          <p:nvPr/>
        </p:nvSpPr>
        <p:spPr>
          <a:xfrm>
            <a:off x="4800600" y="32767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Facilitate summarizing</a:t>
            </a:r>
            <a:endParaRPr b="0" lang="en-US" sz="1800" spc="-1" strike="noStrike">
              <a:solidFill>
                <a:srgbClr val="2d2525"/>
              </a:solidFill>
              <a:latin typeface="Times New Roman"/>
            </a:endParaRPr>
          </a:p>
        </p:txBody>
      </p:sp>
      <p:sp>
        <p:nvSpPr>
          <p:cNvPr id="322" name=""/>
          <p:cNvSpPr/>
          <p:nvPr/>
        </p:nvSpPr>
        <p:spPr>
          <a:xfrm flipH="1">
            <a:off x="1981080" y="2286000"/>
            <a:ext cx="609840" cy="9144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3" name=""/>
          <p:cNvSpPr/>
          <p:nvPr/>
        </p:nvSpPr>
        <p:spPr>
          <a:xfrm flipH="1">
            <a:off x="2514600" y="2286000"/>
            <a:ext cx="533520" cy="2666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4" name=""/>
          <p:cNvSpPr/>
          <p:nvPr/>
        </p:nvSpPr>
        <p:spPr>
          <a:xfrm>
            <a:off x="3581280" y="2286000"/>
            <a:ext cx="838440" cy="2666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5" name=""/>
          <p:cNvSpPr/>
          <p:nvPr/>
        </p:nvSpPr>
        <p:spPr>
          <a:xfrm>
            <a:off x="4191120" y="2286000"/>
            <a:ext cx="838080" cy="9144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6" name=""/>
          <p:cNvSpPr/>
          <p:nvPr/>
        </p:nvSpPr>
        <p:spPr>
          <a:xfrm>
            <a:off x="4632480" y="14400"/>
            <a:ext cx="3292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Before reading the next part, take a moment and imagine how these things work for you as a reader and as a musician. When you do this, you are activating the schemata you have about reading and music.</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provide scaffolding</a:t>
            </a:r>
            <a:endParaRPr b="0" lang="en-US" sz="4400" spc="-1" strike="noStrike">
              <a:solidFill>
                <a:srgbClr val="061c62"/>
              </a:solidFill>
              <a:latin typeface="Times New Roman"/>
            </a:endParaRPr>
          </a:p>
        </p:txBody>
      </p:sp>
      <p:sp>
        <p:nvSpPr>
          <p:cNvPr id="3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d2525"/>
                </a:solidFill>
                <a:uFillTx/>
                <a:latin typeface="Times New Roman"/>
              </a:rPr>
              <a:t>Schemata provide scaffolding that enable us to create meanings out of new information we read and organize that new knowledge in relation to prior knowledge</a:t>
            </a:r>
            <a:r>
              <a:rPr b="0" i="1" lang="en-US" sz="2000" spc="-1" strike="noStrike">
                <a:solidFill>
                  <a:srgbClr val="2d2525"/>
                </a:solidFill>
                <a:latin typeface="Times New Roman"/>
              </a:rPr>
              <a:t>.  When reading about strategies to motivate your students to learn, your schemata related to motivation and motivational strategies would become activated and guide your comprehension of the text you’re reading.  How you have organized information about motivation and motivational strategies would then influence how you process, use, or transform new information you acquire from the text.  We might add that existing schemata may be modified if new learning compels readers to alter their internalized schemata in the direction of new information.  If newly read information does not fit into the slots of readers’ existing schemata, that is, if readers cannot connect new material with their existing schemata, readers will often extend more effort attempting to comprehend the text.</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influence attention</a:t>
            </a:r>
            <a:endParaRPr b="0" lang="en-US" sz="4400" spc="-1" strike="noStrike">
              <a:solidFill>
                <a:srgbClr val="061c62"/>
              </a:solidFill>
              <a:latin typeface="Times New Roman"/>
            </a:endParaRPr>
          </a:p>
        </p:txBody>
      </p:sp>
      <p:sp>
        <p:nvSpPr>
          <p:cNvPr id="3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d2525"/>
                </a:solidFill>
                <a:uFillTx/>
                <a:latin typeface="Times New Roman"/>
              </a:rPr>
              <a:t>Schemata influence attention allocation.</a:t>
            </a:r>
            <a:r>
              <a:rPr b="0" i="1" lang="en-US" sz="2800" spc="-1" strike="noStrike">
                <a:solidFill>
                  <a:srgbClr val="2d2525"/>
                </a:solidFill>
                <a:latin typeface="Times New Roman"/>
              </a:rPr>
              <a:t>  If readers have schemata for a topic, say Dublin, Ireland, those knowledge structures will influence the amount of attention that readers would give to aspects of the text being read, like James Joyce’s </a:t>
            </a:r>
            <a:r>
              <a:rPr b="0" i="1" lang="en-US" sz="2800" spc="-1" strike="noStrike" u="sng">
                <a:solidFill>
                  <a:srgbClr val="2d2525"/>
                </a:solidFill>
                <a:uFillTx/>
                <a:latin typeface="Times New Roman"/>
              </a:rPr>
              <a:t>The Dubliners</a:t>
            </a:r>
            <a:r>
              <a:rPr b="0" i="1" lang="en-US" sz="2800" spc="-1" strike="noStrike">
                <a:solidFill>
                  <a:srgbClr val="2d2525"/>
                </a:solidFill>
                <a:latin typeface="Times New Roman"/>
              </a:rPr>
              <a:t>.  Knowing something about the topic, readers will focus on those features of the text they deem the most importan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influence inferences</a:t>
            </a:r>
            <a:endParaRPr b="0" lang="en-US" sz="4400" spc="-1" strike="noStrike">
              <a:solidFill>
                <a:srgbClr val="061c62"/>
              </a:solidFill>
              <a:latin typeface="Times New Roman"/>
            </a:endParaRPr>
          </a:p>
        </p:txBody>
      </p:sp>
      <p:sp>
        <p:nvSpPr>
          <p:cNvPr id="332" name="PlaceHolder 2"/>
          <p:cNvSpPr>
            <a:spLocks noGrp="1"/>
          </p:cNvSpPr>
          <p:nvPr>
            <p:ph/>
          </p:nvPr>
        </p:nvSpPr>
        <p:spPr>
          <a:xfrm>
            <a:off x="228600" y="1676520"/>
            <a:ext cx="739152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chemata stimulate readers to go beyond the literal to draw less obvious implications and conclusions from text content.  If readers have no pre-existing knowledge about a topic being read, they cannot activate a schema that will help them comprehend either the explicit text or its implications.  I encounter this problem when I try to read articles in the journal Science about research on genetics or neurotransmitters.  However, if readers have a schema for the text, they can use it to make inferences that enable readers to go beyond what is stated in the text itself.  They can also use the schema to fill in knowledge gaps when information may be left out or forgotten.  That inferential elaboration and reconstruction can strengthen readers’ overall text comprehen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facilitate summarizing</a:t>
            </a:r>
            <a:endParaRPr b="0" lang="en-US" sz="4400" spc="-1" strike="noStrike">
              <a:solidFill>
                <a:srgbClr val="061c62"/>
              </a:solidFill>
              <a:latin typeface="Times New Roman"/>
            </a:endParaRPr>
          </a:p>
        </p:txBody>
      </p:sp>
      <p:sp>
        <p:nvSpPr>
          <p:cNvPr id="3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we discovered earlier, summarizing is an important activity in which good readers engage.  If readers have a schema for a topic being read, say motivation, that old network of knowledge about motivation can make summarizing newly acquired knowledge about motivational strategies much less effortful and more comprehensiv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both make inferences and test them while reading.  These inferences include hypotheses, interpretations, predictions, and conclusion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periodically review what they have read and ask themselves questions about the reading.  Summarizing and questioning are powerful comprehension fostering processe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chemata hold the key to understanding the bottom-up and top-down interactive nature of the reading process.  While readers process individual letters and words bottom-up, activated schemata interact with that data and influence the construction of meaning top-down.  This construction-integration process occurs after each reading cycle.  Readers can activate and apply schemata to build web-like representations of the text rather than rigid, slot-filled representation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clarative, procedural, and conditional knowledge</a:t>
            </a:r>
            <a:endParaRPr b="0" lang="en-US" sz="4400" spc="-1" strike="noStrike">
              <a:solidFill>
                <a:srgbClr val="061c62"/>
              </a:solidFill>
              <a:latin typeface="Times New Roman"/>
            </a:endParaRPr>
          </a:p>
        </p:txBody>
      </p:sp>
      <p:sp>
        <p:nvSpPr>
          <p:cNvPr id="338" name="PlaceHolder 2"/>
          <p:cNvSpPr>
            <a:spLocks noGrp="1"/>
          </p:cNvSpPr>
          <p:nvPr>
            <p:ph/>
          </p:nvPr>
        </p:nvSpPr>
        <p:spPr>
          <a:xfrm>
            <a:off x="152280" y="1523880"/>
            <a:ext cx="73915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Background knowledge stored as schemata in LTM has been divided into information about what’s in the world, how it works, and when to use it.  Cognitive psychologists refer to these as declarative, procedural, and conditional knowledge, respectively.  </a:t>
            </a:r>
            <a:r>
              <a:rPr b="1" i="1" lang="en-US" sz="2000" spc="-1" strike="noStrike" u="sng">
                <a:solidFill>
                  <a:srgbClr val="2d2525"/>
                </a:solidFill>
                <a:uFillTx/>
                <a:latin typeface="Times New Roman"/>
              </a:rPr>
              <a:t>Declarative knowledge</a:t>
            </a:r>
            <a:r>
              <a:rPr b="0" i="1" lang="en-US" sz="2000" spc="-1" strike="noStrike">
                <a:solidFill>
                  <a:srgbClr val="2d2525"/>
                </a:solidFill>
                <a:latin typeface="Times New Roman"/>
              </a:rPr>
              <a:t> is knowledge of facts, objects, events, language, concepts, and theories that contributes to our personal construction and understanding of “reality.”  </a:t>
            </a:r>
            <a:r>
              <a:rPr b="1" i="1" lang="en-US" sz="2000" spc="-1" strike="noStrike" u="sng">
                <a:solidFill>
                  <a:srgbClr val="2d2525"/>
                </a:solidFill>
                <a:uFillTx/>
                <a:latin typeface="Times New Roman"/>
              </a:rPr>
              <a:t>Procedural knowledge</a:t>
            </a:r>
            <a:r>
              <a:rPr b="0" i="1" lang="en-US" sz="2000" spc="-1" strike="noStrike">
                <a:solidFill>
                  <a:srgbClr val="2d2525"/>
                </a:solidFill>
                <a:latin typeface="Times New Roman"/>
              </a:rPr>
              <a:t> consists of strategies and skills for using and applying knowledge, from knowing how to replace an electrical wall outlet to starting a barbecue.  We may not even be able to describe some of this procedural knowledge, like riding a bicycle or reading the last sentence you read.  Finally, </a:t>
            </a:r>
            <a:r>
              <a:rPr b="1" i="1" lang="en-US" sz="2000" spc="-1" strike="noStrike" u="sng">
                <a:solidFill>
                  <a:srgbClr val="2d2525"/>
                </a:solidFill>
                <a:uFillTx/>
                <a:latin typeface="Times New Roman"/>
              </a:rPr>
              <a:t>conditional knowledge</a:t>
            </a:r>
            <a:r>
              <a:rPr b="0" i="1" lang="en-US" sz="2000" spc="-1" strike="noStrike">
                <a:solidFill>
                  <a:srgbClr val="2d2525"/>
                </a:solidFill>
                <a:latin typeface="Times New Roman"/>
              </a:rPr>
              <a:t> refers to the “when and why” of using information, such as when and why to apply a known classroom management procedure like assertive discipline.  When we read, we usually use all three of these forms of knowledge because we must access our memory of facts and words, engage our reading skills, and decide when and why to use our knowledge to facilitate comprehension.</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a:t>
            </a:r>
            <a:endParaRPr b="0" lang="en-US" sz="4400" spc="-1" strike="noStrike">
              <a:solidFill>
                <a:srgbClr val="061c62"/>
              </a:solidFill>
              <a:latin typeface="Times New Roman"/>
            </a:endParaRPr>
          </a:p>
        </p:txBody>
      </p:sp>
      <p:sp>
        <p:nvSpPr>
          <p:cNvPr id="34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o construct meaning, readers must engage various forms of knowledge about language.  Reader’s language knowledge includes schemata that represent orthographic, phonological, lexical, and syntactical knowledge.  Although most of these knowledge forms are well developed before a child even enters school, lexical and syntactical knowledge continues to grow throughout the school year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phonological knowledge</a:t>
            </a:r>
            <a:endParaRPr b="0" lang="en-US" sz="4400" spc="-1" strike="noStrike">
              <a:solidFill>
                <a:srgbClr val="061c62"/>
              </a:solidFill>
              <a:latin typeface="Times New Roman"/>
            </a:endParaRPr>
          </a:p>
        </p:txBody>
      </p:sp>
      <p:sp>
        <p:nvSpPr>
          <p:cNvPr id="3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honological knowledge is well established in the memories of most children by the time they are four years old.  They can identify words that conform to English phonology in contrast to sound clusters that make no sense, such as “click” vs. “dleck.”  Some children, however, enter school with English as a second language or with phonological problems that emerge as they learn to rea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a:t>
            </a:r>
            <a:endParaRPr b="0" lang="en-US" sz="4400" spc="-1" strike="noStrike">
              <a:solidFill>
                <a:srgbClr val="061c62"/>
              </a:solidFill>
              <a:latin typeface="Times New Roman"/>
            </a:endParaRPr>
          </a:p>
        </p:txBody>
      </p:sp>
      <p:sp>
        <p:nvSpPr>
          <p:cNvPr id="3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Remember that certain English dialects depart from the “standard” English that is taught in school.  Case in point:  Loretta Lynn’s song, Coal Miner’s Daughter:  “The work we done was hard, at night we’d sleep ‘cause we were tired.”  “Hard” and “tired” rhymed in that song because vowels in Appalachian English are different from standard English.  Children who come to school with a phonological system that differs from “standard” English have the double task of learning the new system and then learning to read within the new system.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Orthographic knowledge</a:t>
            </a:r>
            <a:endParaRPr b="0" lang="en-US" sz="4400" spc="-1" strike="noStrike">
              <a:solidFill>
                <a:srgbClr val="061c62"/>
              </a:solidFill>
              <a:latin typeface="Times New Roman"/>
            </a:endParaRPr>
          </a:p>
        </p:txBody>
      </p:sp>
      <p:sp>
        <p:nvSpPr>
          <p:cNvPr id="34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rthographic knowledge accumulates over time as readers phonologically recode words that have similar patterns and as they store similarly spelled sight words in LTM.  Readers may also acquire orthographic knowledge as they learn to spell words with similar patterns that are stored in their lexicon.  Many spelling patterns, including word roots and word endings may be observed by readers and remembere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lexical knowledge</a:t>
            </a:r>
            <a:endParaRPr b="0" lang="en-US" sz="4400" spc="-1" strike="noStrike">
              <a:solidFill>
                <a:srgbClr val="061c62"/>
              </a:solidFill>
              <a:latin typeface="Times New Roman"/>
            </a:endParaRPr>
          </a:p>
        </p:txBody>
      </p:sp>
      <p:sp>
        <p:nvSpPr>
          <p:cNvPr id="34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Lexical knowledge refers to knowledge of words and their meanings.  Knowledge of words is closely connected with a reader’s background knowledge in the forms of declarative, procedural, and conditional knowledge as well as knowledge of the world in general because it is through words that these forms of knowledge find expression.  Furthermore, some researchers have found that words representing concepts are clustered into categories that are arranged in hierarchically structured schemata.  In turn, these categories are connected with other conceptual structure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xical knowledge, cont.</a:t>
            </a:r>
            <a:endParaRPr b="0" lang="en-US" sz="4400" spc="-1" strike="noStrike">
              <a:solidFill>
                <a:srgbClr val="061c62"/>
              </a:solidFill>
              <a:latin typeface="Times New Roman"/>
            </a:endParaRPr>
          </a:p>
        </p:txBody>
      </p:sp>
      <p:sp>
        <p:nvSpPr>
          <p:cNvPr id="35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ensive research on vocabulary also indicates that lexical knowledge is directly related to comprehension and meaning construction.  Efficient meaning construction demands that readers have a knowledge of concepts, and readers must depend upon their internal lexicon of remembered words as their route to these concepts.  How would I ever explain the process of reading to you without having the vocabulary to do so?  How would you ever understand it without having the vocabulary I use?  The larger a reader’s lexicon, the larger is the reader’s capacity to understand texts.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xical knowledge, cont.</a:t>
            </a:r>
            <a:endParaRPr b="0" lang="en-US" sz="4400" spc="-1" strike="noStrike">
              <a:solidFill>
                <a:srgbClr val="061c62"/>
              </a:solidFill>
              <a:latin typeface="Times New Roman"/>
            </a:endParaRPr>
          </a:p>
        </p:txBody>
      </p:sp>
      <p:sp>
        <p:nvSpPr>
          <p:cNvPr id="35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ile the size of a reader’s lexicon is important, so is speed of access to it.  Research on lexical access reveals that the meaning of more frequently used words, such as “when,” are more rapidly activated than less frequently used ones.  Fluent readers usually have faster lexical access speeds than poor readers who may have to activate phonological information about a word before gaining lexical acces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syntactical knowledge</a:t>
            </a:r>
            <a:endParaRPr b="0" lang="en-US" sz="4400" spc="-1" strike="noStrike">
              <a:solidFill>
                <a:srgbClr val="061c62"/>
              </a:solidFill>
              <a:latin typeface="Times New Roman"/>
            </a:endParaRPr>
          </a:p>
        </p:txBody>
      </p:sp>
      <p:sp>
        <p:nvSpPr>
          <p:cNvPr id="3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yntactical knowledge, like phonological knowledge, is well developed before children begin reading.  The basic ability to understand and generate language is inborn.  According to Bruner (1986), we are born with a Language Acquisition Device (LAD) that requires a Language Acquisition Support System (LASS).  The LASS is embedded in our culture and emerges in various social settings.  A child’s innate capacity to understand and generate syntactical structures will not develop normally if it is not sufficiently stimulated and supported through social interact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do not ignore comprehension breakdowns or lapses.  They take steps to correct comprehension once problems are recogniz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also clarify for themselves why they are reading and try to understand what is expected of them as readers and learner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other digression</a:t>
            </a:r>
            <a:endParaRPr b="0" lang="en-US" sz="4400" spc="-1" strike="noStrike">
              <a:solidFill>
                <a:srgbClr val="061c62"/>
              </a:solidFill>
              <a:latin typeface="Times New Roman"/>
            </a:endParaRPr>
          </a:p>
        </p:txBody>
      </p:sp>
      <p:sp>
        <p:nvSpPr>
          <p:cNvPr id="35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Occasionally, researchers have been able to study children who have not been exposed to language adequately.  In one such case, a little girl was socially isolated as part of a pattern of serious, long term abuse and neglect by her family.  By the time she was found (10 or 11 years old, I think) it was too late for her to develop much in the way of language.  The Language Acquisition Device in our brains must be stimulated at the right time in a child’s life or language will not develop.</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analysis skills</a:t>
            </a:r>
            <a:endParaRPr b="0" lang="en-US" sz="4400" spc="-1" strike="noStrike">
              <a:solidFill>
                <a:srgbClr val="061c62"/>
              </a:solidFill>
              <a:latin typeface="Times New Roman"/>
            </a:endParaRPr>
          </a:p>
        </p:txBody>
      </p:sp>
      <p:sp>
        <p:nvSpPr>
          <p:cNvPr id="35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d analysis enables readers to recognize words, to transform visual symbols in print to mental representations for meaning construction.  Word analyzing skills are grounded in each reader’s early experiences with print and invented spellings and grow through the school years into the automatic processing of known words and the conscious analysis of new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ncoding productions</a:t>
            </a:r>
            <a:endParaRPr b="0" lang="en-US" sz="4400" spc="-1" strike="noStrike">
              <a:solidFill>
                <a:srgbClr val="061c62"/>
              </a:solidFill>
              <a:latin typeface="Times New Roman"/>
            </a:endParaRPr>
          </a:p>
        </p:txBody>
      </p:sp>
      <p:sp>
        <p:nvSpPr>
          <p:cNvPr id="36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umerous encoding productions are also stored in LTM.  Encoding refers to the change or transformation of symbols, whether visual or auditory, into memory patterns.  You encoded these words in order to understand them.  For encoding to occur, we have to learn many productions.  A production is similar to a computer’s program because, just like a production, a program states an action that is to be carried out and the conditions that need to be met for that action to take place.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ncoding productions</a:t>
            </a:r>
            <a:endParaRPr b="0" lang="en-US" sz="4400" spc="-1" strike="noStrike">
              <a:solidFill>
                <a:srgbClr val="061c62"/>
              </a:solidFill>
              <a:latin typeface="Times New Roman"/>
            </a:endParaRPr>
          </a:p>
        </p:txBody>
      </p:sp>
      <p:sp>
        <p:nvSpPr>
          <p:cNvPr id="36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e have in LTM many production rules or statements consisting of IF-THEN connections that are activated under the right conditions, such as when we are multiplying numbers or reading.  For examples, IF 7x7, THEN 49.  Together, these production rules make up a production system that is just like the computer program I’m using to type this sentence on my monitor.  This program has a rule like this:  If I spell </a:t>
            </a:r>
            <a:r>
              <a:rPr b="0" i="1" lang="en-US" sz="2400" spc="-1" strike="noStrike" u="sng">
                <a:solidFill>
                  <a:srgbClr val="2d2525"/>
                </a:solidFill>
                <a:uFillTx/>
                <a:latin typeface="Times New Roman"/>
              </a:rPr>
              <a:t>their</a:t>
            </a:r>
            <a:r>
              <a:rPr b="0" i="1" lang="en-US" sz="2400" spc="-1" strike="noStrike">
                <a:solidFill>
                  <a:srgbClr val="2d2525"/>
                </a:solidFill>
                <a:latin typeface="Times New Roman"/>
              </a:rPr>
              <a:t> “thier,” THEN it will underline </a:t>
            </a:r>
            <a:r>
              <a:rPr b="0" i="1" lang="en-US" sz="2400" spc="-1" strike="noStrike" u="sng">
                <a:solidFill>
                  <a:srgbClr val="2d2525"/>
                </a:solidFill>
                <a:uFillTx/>
                <a:latin typeface="Times New Roman"/>
              </a:rPr>
              <a:t>thier</a:t>
            </a:r>
            <a:r>
              <a:rPr b="0" i="1" lang="en-US" sz="2400" spc="-1" strike="noStrike">
                <a:solidFill>
                  <a:srgbClr val="2d2525"/>
                </a:solidFill>
                <a:latin typeface="Times New Roman"/>
              </a:rPr>
              <a:t> in red.  Encoding productions and word analysis skills contribute to readers’ recognition of word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structure knowledge</a:t>
            </a:r>
            <a:endParaRPr b="0" lang="en-US" sz="4400" spc="-1" strike="noStrike">
              <a:solidFill>
                <a:srgbClr val="061c62"/>
              </a:solidFill>
              <a:latin typeface="Times New Roman"/>
            </a:endParaRPr>
          </a:p>
        </p:txBody>
      </p:sp>
      <p:sp>
        <p:nvSpPr>
          <p:cNvPr id="364" name="PlaceHolder 2"/>
          <p:cNvSpPr>
            <a:spLocks noGrp="1"/>
          </p:cNvSpPr>
          <p:nvPr>
            <p:ph/>
          </p:nvPr>
        </p:nvSpPr>
        <p:spPr>
          <a:xfrm>
            <a:off x="228600" y="167652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readers respond to texts and construct meanings for them, they often try to figure out if the text is narrative or expository.  These text structures and strategies for figuring out what form a text is likely to fit are stored as schemata in LTM.  These schemata, if appropriately activated, can help readers discover how a writer organized a text and how to organize a mental representation of that text.  Narrative text structures follow a “story grammar” that includes setting, initiating event, characters’ responses to that event, characters’ behaviors, consequences of t e behaviors, and a resolution.  Although often mixed, expository texts typically take one of six forms:  description, sequence, causation, problem-solution, comparison, and persua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mprehension strategies</a:t>
            </a:r>
            <a:endParaRPr b="0" lang="en-US" sz="4400" spc="-1" strike="noStrike">
              <a:solidFill>
                <a:srgbClr val="061c62"/>
              </a:solidFill>
              <a:latin typeface="Times New Roman"/>
            </a:endParaRPr>
          </a:p>
        </p:txBody>
      </p:sp>
      <p:sp>
        <p:nvSpPr>
          <p:cNvPr id="36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o the list of resources held in LTM, I would add comprehension strategies.  Readers apply these strategies to promote meaning construction and learning from texts under certain conditions, for example, when faced with an unfamiliar text structure, when comprehension breaks down, or when engaged in critical reading.   I would add word identification strategies that may be triggered when less familiar words, like “approbation” appear in texts and readers may need to analyze the word or use context cues in order to increase the likelihood of its being recognize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mprehension strategies</a:t>
            </a:r>
            <a:endParaRPr b="0" lang="en-US" sz="4400" spc="-1" strike="noStrike">
              <a:solidFill>
                <a:srgbClr val="061c62"/>
              </a:solidFill>
              <a:latin typeface="Times New Roman"/>
            </a:endParaRPr>
          </a:p>
        </p:txBody>
      </p:sp>
      <p:sp>
        <p:nvSpPr>
          <p:cNvPr id="36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we saw from our review of characteristics of good readers, they usually have many comprehension strategies stored in LTM that they can activate when they get into trouble reading a challenging text.  However, less skilled and struggling readers have far fewer strategies to activate and apply.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recognition</a:t>
            </a:r>
            <a:endParaRPr b="0" lang="en-US" sz="4400" spc="-1" strike="noStrike">
              <a:solidFill>
                <a:srgbClr val="061c62"/>
              </a:solidFill>
              <a:latin typeface="Times New Roman"/>
            </a:endParaRPr>
          </a:p>
        </p:txBody>
      </p:sp>
      <p:sp>
        <p:nvSpPr>
          <p:cNvPr id="370" name="PlaceHolder 2"/>
          <p:cNvSpPr>
            <a:spLocks noGrp="1"/>
          </p:cNvSpPr>
          <p:nvPr>
            <p:ph/>
          </p:nvPr>
        </p:nvSpPr>
        <p:spPr>
          <a:xfrm>
            <a:off x="0" y="1371600"/>
            <a:ext cx="739152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hen readers fixate on the word “cat,” orthographic and phonological processing fire up. All of the letters in the word “cat” should be strongly associated because of the word’ frequency, even for early readers.  We could expect that the reader will see and, most likely, hear “cat” and its letter units as an associated pattern of letters.  If the pattern of letters had been c-y-t instead of c-a-t, some readers’ orthographic processors might attempt to process the stimulus pattern in the same way.  However, most readers would eventually perceive the set of letters as c-y-t, the visual stimulus on the page.  The automatic response to certain words, such as “cat,” is a result of our learning patterns of associated but individual letters.  The whole word is easier to read than its individual parts because of their being strongly associate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recognition</a:t>
            </a:r>
            <a:endParaRPr b="0" lang="en-US" sz="4400" spc="-1" strike="noStrike">
              <a:solidFill>
                <a:srgbClr val="061c62"/>
              </a:solidFill>
              <a:latin typeface="Times New Roman"/>
            </a:endParaRPr>
          </a:p>
        </p:txBody>
      </p:sp>
      <p:sp>
        <p:nvSpPr>
          <p:cNvPr id="37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beginning readers become more fluent readers, they learn more and more “sight words” or words that readers recognize at a glance and without much in the way of extensive orthographic and phonological processing.  These words include the, and, that and (with more practice) words such as bat, dog, fish, and tree. Some teachers encourage emergent readers to learn sight words and keep word banks displayed on classroom walls.  While short function words, frequently repeated words, and easily predictable words may occasionally be skipped, most content words in a text receive direct visual fixation to facilitate word recognit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ays of reading words</a:t>
            </a:r>
            <a:endParaRPr b="0" lang="en-US" sz="4400" spc="-1" strike="noStrike">
              <a:solidFill>
                <a:srgbClr val="061c62"/>
              </a:solidFill>
              <a:latin typeface="Times New Roman"/>
            </a:endParaRPr>
          </a:p>
        </p:txBody>
      </p:sp>
      <p:sp>
        <p:nvSpPr>
          <p:cNvPr id="37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ght</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ecoding (or phonological reading)</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nalogizing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pelling patterns (or orthographic pattern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text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make sure the meanings they are constructing while reading are internally consistent and compatible with what they know and what makes sense.  This constitutes part of their internalized standards of text evaluation.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ight</a:t>
            </a:r>
            <a:endParaRPr b="0" lang="en-US" sz="4400" spc="-1" strike="noStrike">
              <a:solidFill>
                <a:srgbClr val="061c62"/>
              </a:solidFill>
              <a:latin typeface="Times New Roman"/>
            </a:endParaRPr>
          </a:p>
        </p:txBody>
      </p:sp>
      <p:sp>
        <p:nvSpPr>
          <p:cNvPr id="37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we have seen, only familiar words are read by sight.  When reading words by sight, readers access their mental dictionary and identify the word’s meaning, spelling, pronunciation, and even grammatical roles in sentences.  These words are read rapidly as units with no analysis of or breaks between phonemes (or letter sound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coding</a:t>
            </a:r>
            <a:endParaRPr b="0" lang="en-US" sz="4400" spc="-1" strike="noStrike">
              <a:solidFill>
                <a:srgbClr val="061c62"/>
              </a:solidFill>
              <a:latin typeface="Times New Roman"/>
            </a:endParaRPr>
          </a:p>
        </p:txBody>
      </p:sp>
      <p:sp>
        <p:nvSpPr>
          <p:cNvPr id="37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is is slower than reading sight words because readers transform the sight of a word into its component sounds by applying their knowledge of the relationship between letters and their sounds (grapheme-phoneme correspondences)   Then they search their mental dictionaries for meanings that are associated with that pronunciation.  Although you can hear beginning readers decode, more experienced readers do it mentally although you may detect some subvocalizing as they experiment with possible sounds for a wor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alogizing</a:t>
            </a:r>
            <a:endParaRPr b="0" lang="en-US" sz="4400" spc="-1" strike="noStrike">
              <a:solidFill>
                <a:srgbClr val="061c62"/>
              </a:solidFill>
              <a:latin typeface="Times New Roman"/>
            </a:endParaRPr>
          </a:p>
        </p:txBody>
      </p:sp>
      <p:sp>
        <p:nvSpPr>
          <p:cNvPr id="380" name="PlaceHolder 2"/>
          <p:cNvSpPr>
            <a:spLocks noGrp="1"/>
          </p:cNvSpPr>
          <p:nvPr>
            <p:ph/>
          </p:nvPr>
        </p:nvSpPr>
        <p:spPr>
          <a:xfrm>
            <a:off x="0" y="160020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en analogizing, readers search their memory for known words that have the same parts of spelling as as an unfamiliar word.  When reading the word Armorica as a geographical location mentioned in James Joyce’s Finnigans Wake, a reader could figure out the meanings of that word by analogizing to America, armor, and amor (love)—all of which lend meaning to Joyce’s neologism (or new word making) as he begins his neverending story.  Beginning readers use analogies with far less esoteric reading tasks than deciphering Joyc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pelling patterns</a:t>
            </a:r>
            <a:endParaRPr b="0" lang="en-US" sz="4400" spc="-1" strike="noStrike">
              <a:solidFill>
                <a:srgbClr val="061c62"/>
              </a:solidFill>
              <a:latin typeface="Times New Roman"/>
            </a:endParaRPr>
          </a:p>
        </p:txBody>
      </p:sp>
      <p:sp>
        <p:nvSpPr>
          <p:cNvPr id="38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readers to use spelling patterns to figure out a word’s meaning, they need to have the spellings of many words stored in memory to take advantage of pattern recognition. When letter clusters are identified, orthographically associated words are activated.  That leads to the word’s pronunciation and on to the discovery of its meaning.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text</a:t>
            </a:r>
            <a:endParaRPr b="0" lang="en-US" sz="4400" spc="-1" strike="noStrike">
              <a:solidFill>
                <a:srgbClr val="061c62"/>
              </a:solidFill>
              <a:latin typeface="Times New Roman"/>
            </a:endParaRPr>
          </a:p>
        </p:txBody>
      </p:sp>
      <p:sp>
        <p:nvSpPr>
          <p:cNvPr id="38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s readers read, they set up expectations about what’s coming next, just as we do when listening to a friend’s conversation and anticipating what will next be said.  The text that readers have comprehended creates a context in which they can guess the meaning of unfamiliar words.  Unfortunately, unfamiliar content words in an informational text often carry an abundance of meaning, and guessing from context may not provide accurate information for understanding of the unfamiliar wor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recognition</a:t>
            </a:r>
            <a:endParaRPr b="0" lang="en-US" sz="4400" spc="-1" strike="noStrike">
              <a:solidFill>
                <a:srgbClr val="061c62"/>
              </a:solidFill>
              <a:latin typeface="Times New Roman"/>
            </a:endParaRPr>
          </a:p>
        </p:txBody>
      </p:sp>
      <p:sp>
        <p:nvSpPr>
          <p:cNvPr id="386"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d recognition is the foundation of the reading process, and weak word recognition is a strong predictor of problems in reading comprehension.  Without sufficient practice in reading, less efficient readers are unlikely to develop automaticity and speed in word recognition.  Slow processing draws on  memory capacity that higher level comprehension and text integration require.  With reading for meaning hampered by word recognition problems, struggling readers rarely enjoy reading, become engaged in it, or build knowledge and skills from i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rase/sentence sense</a:t>
            </a:r>
            <a:endParaRPr b="0" lang="en-US" sz="4400" spc="-1" strike="noStrike">
              <a:solidFill>
                <a:srgbClr val="061c62"/>
              </a:solidFill>
              <a:latin typeface="Times New Roman"/>
            </a:endParaRPr>
          </a:p>
        </p:txBody>
      </p:sp>
      <p:sp>
        <p:nvSpPr>
          <p:cNvPr id="38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readers recognize individual word meanings, these individual meanings cohere into longer units of meaning.  Effective readers quickly construct phrases and sentences that make sense.  To make phrase and sentence sense, readers engage in proposition construction and meaning integra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position construction occurs when readers combine individually recognized words and their grammatical forms, inflections, or cues into basic meaning structures.  A proposition is the smallest unit of knowledge that can stand as a separate assertion subject to a test of being true or false.  Propositions commonly reveal an agent’s or an object’s condition or action.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 example</a:t>
            </a:r>
            <a:endParaRPr b="0" lang="en-US" sz="4400" spc="-1" strike="noStrike">
              <a:solidFill>
                <a:srgbClr val="061c62"/>
              </a:solidFill>
              <a:latin typeface="Times New Roman"/>
            </a:endParaRPr>
          </a:p>
        </p:txBody>
      </p:sp>
      <p:sp>
        <p:nvSpPr>
          <p:cNvPr id="392" name="PlaceHolder 2"/>
          <p:cNvSpPr>
            <a:spLocks noGrp="1"/>
          </p:cNvSpPr>
          <p:nvPr>
            <p:ph/>
          </p:nvPr>
        </p:nvSpPr>
        <p:spPr>
          <a:xfrm>
            <a:off x="228600" y="1371600"/>
            <a:ext cx="7391520" cy="411480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t>
            </a:r>
            <a:r>
              <a:rPr b="0" i="1" lang="en-US" sz="2400" spc="-1" strike="noStrike">
                <a:solidFill>
                  <a:srgbClr val="2d2525"/>
                </a:solidFill>
                <a:latin typeface="Times New Roman"/>
              </a:rPr>
              <a:t>Sam took the right fork” contains several propositions or meaning structures, some contributing to ambiguity.</a:t>
            </a:r>
            <a:endParaRPr b="0" i="1" lang="en-US" sz="2400" spc="-1" strike="noStrike">
              <a:solidFill>
                <a:srgbClr val="2d2525"/>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  Sam exists (Noun function/Subject)</a:t>
            </a:r>
            <a:endParaRPr b="0" i="1" lang="en-US" sz="2400" spc="-1" strike="noStrike">
              <a:solidFill>
                <a:srgbClr val="2d2525"/>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2.  A fork exists (Noun function/Object)</a:t>
            </a:r>
            <a:endParaRPr b="0" i="1" lang="en-US" sz="2400" spc="-1" strike="noStrike">
              <a:solidFill>
                <a:srgbClr val="2d2525"/>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2.1 Fork may mean eating utensil</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2.2 Fork may mean farm tool</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2.3 Fork may mean branch in road.</a:t>
            </a:r>
            <a:endParaRPr b="0" i="1" lang="en-US" sz="2400" spc="-1" strike="noStrike">
              <a:solidFill>
                <a:srgbClr val="2d2525"/>
              </a:solidFill>
              <a:latin typeface="Times New Roman"/>
            </a:endParaRPr>
          </a:p>
          <a:p>
            <a:pPr lvl="1" marL="97200" indent="3960">
              <a:lnSpc>
                <a:spcPct val="90000"/>
              </a:lnSpc>
              <a:spcBef>
                <a:spcPts val="601"/>
              </a:spcBef>
              <a:buClr>
                <a:srgbClr val="061c62"/>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am “take” fork (Past/Verb function)</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3.1 Take may mean grasp with the hands</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3.2  Take may mean go in a specific direction.</a:t>
            </a:r>
            <a:endParaRPr b="0" i="1" lang="en-US" sz="2400" spc="-1" strike="noStrike">
              <a:solidFill>
                <a:srgbClr val="2d2525"/>
              </a:solidFill>
              <a:latin typeface="Times New Roman"/>
            </a:endParaRPr>
          </a:p>
          <a:p>
            <a:pPr lvl="1" marL="97200" indent="3960">
              <a:lnSpc>
                <a:spcPct val="90000"/>
              </a:lnSpc>
              <a:spcBef>
                <a:spcPts val="601"/>
              </a:spcBef>
              <a:buClr>
                <a:srgbClr val="061c62"/>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orks can be right or wrong in terms of correctness</a:t>
            </a:r>
            <a:endParaRPr b="0" i="1" lang="en-US" sz="2400" spc="-1" strike="noStrike">
              <a:solidFill>
                <a:srgbClr val="2d2525"/>
              </a:solidFill>
              <a:latin typeface="Times New Roman"/>
            </a:endParaRPr>
          </a:p>
          <a:p>
            <a:pPr lvl="1" marL="97200" indent="3960">
              <a:lnSpc>
                <a:spcPct val="90000"/>
              </a:lnSpc>
              <a:spcBef>
                <a:spcPts val="601"/>
              </a:spcBef>
              <a:buClr>
                <a:srgbClr val="061c62"/>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orks can be right or left in terms of direct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o disambiguate the statements about Sam and the fork and to construct an appropriate clause based on these propositions, readers refer to the context in which the original language occurred.</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identify key concepts or major propositions (aka macro-propositions) when reading expository texts and use them as knowledge organizer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also make good use of their working memory so they can hold alternative interpretations of a text in mind, compare them, and evaluate them to determine which interpretation should be granted greater credibilit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6"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art of constructing phrases, clauses, and sentences that make sense depends upon readers’ grammatical or syntactical knowledge.  That knowledge enables readers to construct a sensible grammatical structure, such as a sentence, from individual words, their endings or inflections, and often their placement in a sentence pattern, such as Subject + Verb + Object.  If readers have trouble recognizing how words fit together, including inflected words, into a clause or sentence pattern, then reading slows until readers recognize patterns that make sense.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8" name="PlaceHolder 2"/>
          <p:cNvSpPr>
            <a:spLocks noGrp="1"/>
          </p:cNvSpPr>
          <p:nvPr>
            <p:ph/>
          </p:nvPr>
        </p:nvSpPr>
        <p:spPr>
          <a:xfrm>
            <a:off x="228600" y="1371600"/>
            <a:ext cx="739152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Phonological processing promotes meaning construction as well.  Although readers process words more or less one at a time, those words must be put into phrases or clauses or sentences to be understood.  When we reproduce an utterance based on a text, we usually shape its delivery with intonation that reinforces its  sense.  Pitches drop.  Pauses occur, usually at important junctures in sentences or at their ends.  These inner-speech patterns produced through phonological processing help reader construct meaning and reflect on it.  Researchers have found that if good readers are not allowed to vocalize beneath the surface (subvocalize or use internal and silent speech), their capacity to understand longer and more complex sentences is disrupted.  However, if young readers take too long to process individual, unfamiliar words in a sentence, they are likely to have trouble making sense of the sentence because early parts of its meaning will have decayed before sense can be made of the whole.  Furthermore, if struggling readers must focus attention on individual letters and syllable, then they have trouble constructing meaningfully worded clauses because capacity for phonological processing is unavailable.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400"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e must also recognize that phrases, clauses, and sentences are constructed in what dual coding theorists call the “verbal system,” these structures may also interact with corresponding visual imagery developing in the nonverbal system.  We can conceive of a reader imagining a fork, either in a road or on a table.  This sympathetic nonverbal activity would be especially true of narrative texts eliciting imager, but, imagery may be encouraged to foster comprehension and recall of expository content area texts that are unlikely to promote much imagery naturally.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integration</a:t>
            </a:r>
            <a:endParaRPr b="0" lang="en-US" sz="4400" spc="-1" strike="noStrike">
              <a:solidFill>
                <a:srgbClr val="061c62"/>
              </a:solidFill>
              <a:latin typeface="Times New Roman"/>
            </a:endParaRPr>
          </a:p>
        </p:txBody>
      </p:sp>
      <p:sp>
        <p:nvSpPr>
          <p:cNvPr id="4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position integration occurs when readers combine simple propositions into more complex units of meaning:  grammatical sentences that make sense.  Returning to “Sam took the right fork,” we can see that once readers are able to connect which meaning of fork goes with which meaning of “right,” they are able to integrate the propositions embedded in the words and construct an unambiguous, meaningful sentenc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integration</a:t>
            </a:r>
            <a:endParaRPr b="0" lang="en-US" sz="4400" spc="-1" strike="noStrike">
              <a:solidFill>
                <a:srgbClr val="061c62"/>
              </a:solidFill>
              <a:latin typeface="Times New Roman"/>
            </a:endParaRPr>
          </a:p>
        </p:txBody>
      </p:sp>
      <p:sp>
        <p:nvSpPr>
          <p:cNvPr id="404" name="PlaceHolder 2"/>
          <p:cNvSpPr>
            <a:spLocks noGrp="1"/>
          </p:cNvSpPr>
          <p:nvPr>
            <p:ph/>
          </p:nvPr>
        </p:nvSpPr>
        <p:spPr>
          <a:xfrm>
            <a:off x="228600" y="160020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s readers integrated propositions into sense-making sentences, schema related to the topic becomes activated.  If the meaning for “fork” is that of eating utensil, then, according to schema theory, we would expect knowledge about eating utensils and perhaps dining to become activated and moved from long-term memory to working memory to influence text comprehension.  If the meaning for fork is that of a split in a road, then we would expect a very different kind of schema to be reconstructed from memory and to influence comprehensio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building</a:t>
            </a:r>
            <a:endParaRPr b="0" lang="en-US" sz="4400" spc="-1" strike="noStrike">
              <a:solidFill>
                <a:srgbClr val="061c62"/>
              </a:solidFill>
              <a:latin typeface="Times New Roman"/>
            </a:endParaRPr>
          </a:p>
        </p:txBody>
      </p:sp>
      <p:sp>
        <p:nvSpPr>
          <p:cNvPr id="4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ext building takes place as we link and integrate sentences, engage schemata, and form gists or general meanings.  Text building results in the construction of an </a:t>
            </a:r>
            <a:r>
              <a:rPr b="0" i="1" lang="en-US" sz="3200" spc="-1" strike="noStrike" u="sng">
                <a:solidFill>
                  <a:srgbClr val="2d2525"/>
                </a:solidFill>
                <a:uFillTx/>
                <a:latin typeface="Times New Roman"/>
              </a:rPr>
              <a:t>internal text representation</a:t>
            </a:r>
            <a:r>
              <a:rPr b="0" i="1" lang="en-US" sz="3200" spc="-1" strike="noStrike">
                <a:solidFill>
                  <a:srgbClr val="2d2525"/>
                </a:solidFill>
                <a:latin typeface="Times New Roman"/>
              </a:rPr>
              <a:t>.</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building</a:t>
            </a:r>
            <a:endParaRPr b="0" lang="en-US" sz="4400" spc="-1" strike="noStrike">
              <a:solidFill>
                <a:srgbClr val="061c62"/>
              </a:solidFill>
              <a:latin typeface="Times New Roman"/>
            </a:endParaRPr>
          </a:p>
        </p:txBody>
      </p:sp>
      <p:sp>
        <p:nvSpPr>
          <p:cNvPr id="408"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During the building of an internal text representation, readers link sentences containing simpler units of meaning into a more complex, integrated network.  That active mental representation of the text is held in working memory and is subject to extension and revision.  Some researchers believe that readers infer little beyond what is need to construct a coherent representation of the text on the page.  According to that view, a reader first constructs a text-on-the-page representation from processes such as decoding, word recognition, and proposition formation and then, as a secondary process, interprets that representation.  Research suggests that weaker reader appear to make fewer inferences and do not expand beyond the text-on-the-page representation, while stronger readers make more inferences and construct richer interpretations of the text.</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Key propositions</a:t>
            </a:r>
            <a:endParaRPr b="0" lang="en-US" sz="4400" spc="-1" strike="noStrike">
              <a:solidFill>
                <a:srgbClr val="061c62"/>
              </a:solidFill>
              <a:latin typeface="Times New Roman"/>
            </a:endParaRPr>
          </a:p>
        </p:txBody>
      </p:sp>
      <p:sp>
        <p:nvSpPr>
          <p:cNvPr id="4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development of a text representation is often controlled by key propositions that we construct as we make our way through a text.  In expository prose, key propositions may be contained in a paragraph’s topic sentence or develop as a reader makes inferences about a text’s content.  These “macro-propositions” become organizing principles that influence subsequent text interpretation.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Key propositions</a:t>
            </a:r>
            <a:endParaRPr b="0" lang="en-US" sz="4400" spc="-1" strike="noStrike">
              <a:solidFill>
                <a:srgbClr val="061c62"/>
              </a:solidFill>
              <a:latin typeface="Times New Roman"/>
            </a:endParaRPr>
          </a:p>
        </p:txBody>
      </p:sp>
      <p:sp>
        <p:nvSpPr>
          <p:cNvPr id="41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f a reader’s adherence to a key proposition is too great, it may distort comprehension of a text, as can activated schema held in LTM.  This could happen when a reader ignores text content, such as qualifications of a proposition or information that contradicts it, in order to preserve the reader’s belief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a:t>
            </a:r>
            <a:endParaRPr b="0" lang="en-US" sz="4400" spc="-1" strike="noStrike">
              <a:solidFill>
                <a:srgbClr val="061c62"/>
              </a:solidFill>
              <a:latin typeface="Times New Roman"/>
            </a:endParaRPr>
          </a:p>
        </p:txBody>
      </p:sp>
      <p:sp>
        <p:nvSpPr>
          <p:cNvPr id="414"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ake any issue for which there are disagreements and strong beliefs. People on the opposite sides of a particular issue will read the same text in very different ways and get very different meanings from it.  This is because their schemata are influenced by their belief systems.  If you are asking students to read a text that touches on issues about which they might have strong feelings, keep this in mind.  A musical example might be rap.  People who love rap will read a review or critique of rap very differently from those who hate it.  When this sort of thing happens, people can become very resistant to whatever information is in the text.  When they are resistant, they are not learning (keeping in mind that emotions influence whether or not learning takes place).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6:54:53Z</dcterms:created>
  <dc:creator> </dc:creator>
  <dc:description/>
  <dc:language>en-US</dc:language>
  <cp:lastModifiedBy>Capital University</cp:lastModifiedBy>
  <dcterms:modified xsi:type="dcterms:W3CDTF">2005-06-14T15:52:14Z</dcterms:modified>
  <cp:revision>219</cp:revision>
  <dc:subject/>
  <dc:title>Readers Reading:  Inside the Meaning Construction Zone</dc:title>
</cp:coreProperties>
</file>